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48.png" ContentType="image/png"/>
  <Override PartName="/ppt/media/image11.png" ContentType="image/png"/>
  <Override PartName="/ppt/media/image9.jpeg" ContentType="image/jpe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47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19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9.png" ContentType="image/png"/>
  <Override PartName="/ppt/media/image6.png" ContentType="image/png"/>
  <Override PartName="/ppt/media/image28.jpeg" ContentType="image/jpeg"/>
  <Override PartName="/ppt/media/image20.png" ContentType="image/png"/>
  <Override PartName="/ppt/media/image10.png" ContentType="image/png"/>
  <Override PartName="/ppt/media/image36.jpeg" ContentType="image/jpeg"/>
  <Override PartName="/ppt/media/image57.png" ContentType="image/png"/>
  <Override PartName="/ppt/media/image4.png" ContentType="image/png"/>
  <Override PartName="/ppt/media/image16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12.png" ContentType="image/png"/>
  <Override PartName="/ppt/media/image49.png" ContentType="image/png"/>
  <Override PartName="/ppt/media/image30.png" ContentType="image/png"/>
  <Override PartName="/ppt/media/image31.png" ContentType="image/png"/>
  <Override PartName="/ppt/media/image37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322-9279-4102-B28A-88C10707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865-E775-47B7-B774-939F7ED1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7E6A-65C6-4470-A68F-1BB58A51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4A68-DD84-47EA-8B44-E164E4B1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8DE2-5626-4D49-A67E-9C7FC640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983-A2E3-42ED-9E68-D86A98AE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FA8-3FAF-4279-B97D-156A331A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1E5-ABED-4FCC-A77E-AF025C2D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1FA-85A9-4646-8E16-FA30EE91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76B7-54EE-4A9C-BC24-626E27D4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969-A2F6-4502-BE1E-FEB74876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D2C-6347-4026-840C-81EF62AA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1B46-B933-4BCE-93FB-1956749CF9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image" Target="../media/image3.png"/><Relationship Id="rId6" Type="http://schemas.openxmlformats.org/officeDocument/2006/relationships/slide" Target="slide2.xml"/><Relationship Id="rId7" Type="http://schemas.openxmlformats.org/officeDocument/2006/relationships/slide" Target="slide10.xml"/><Relationship Id="rId8" Type="http://schemas.openxmlformats.org/officeDocument/2006/relationships/image" Target="../media/image4.png"/><Relationship Id="rId9" Type="http://schemas.openxmlformats.org/officeDocument/2006/relationships/slide" Target="slide3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hyperlink" Target="file:///6%20&#1046;&#1048;&#1042;&#1067;&#1045;%20&#1056;&#1045;&#1041;&#1059;&#1057;&#1067;.%20&#1091;&#1095;-&#1083;&#1086;&#1075;&#1086;&#1087;&#1077;&#1076;%20%20&#1044;&#1086;&#1073;&#1088;&#1099;&#1085;&#1080;&#1085;&#1072;%20&#1054;.&#1042;..ppt" TargetMode="External"/><Relationship Id="rId10" Type="http://schemas.openxmlformats.org/officeDocument/2006/relationships/image" Target="../media/image4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file:///1%20&#1048;&#1075;&#1088;&#1099;%20&#1089;%20&#1075;&#1083;&#1072;&#1089;&#1085;&#1099;&#1084;&#1080;%20&#1079;&#1074;&#1091;&#1082;&#1086;&#1084;%20&#1040;.%20&#1091;&#1095;-&#1083;&#1086;&#1075;&#1086;&#1087;&#1077;&#1076;%20&#1044;&#1086;&#1073;&#1088;&#1099;&#1085;&#1080;&#1085;&#1072;%20&#1054;.&#1042;..ppt#Slide 1" TargetMode="External"/><Relationship Id="rId5" Type="http://schemas.openxmlformats.org/officeDocument/2006/relationships/image" Target="../media/image12.png"/><Relationship Id="rId6" Type="http://schemas.openxmlformats.org/officeDocument/2006/relationships/hyperlink" Target="file:///2%20&#1048;&#1075;&#1088;&#1099;%20&#1089;%20&#1075;&#1083;&#1072;&#1089;&#1085;&#1099;&#1084;%20&#1079;&#1074;&#1091;&#1082;&#1086;&#1084;%20&#1059;.%20&#1091;&#1095;-&#1083;&#1086;&#1075;&#1086;&#1087;&#1077;&#1076;%20&#1044;&#1086;&#1073;&#1088;&#1099;&#1085;&#1080;&#1085;&#1072;%20&#1054;.&#1042;..ppt#Slide 1" TargetMode="External"/><Relationship Id="rId7" Type="http://schemas.openxmlformats.org/officeDocument/2006/relationships/image" Target="../media/image13.png"/><Relationship Id="rId8" Type="http://schemas.openxmlformats.org/officeDocument/2006/relationships/hyperlink" Target="file:///3%20&#1048;&#1075;&#1088;&#1099;%20&#1089;%20&#1075;&#1083;&#1072;&#1089;&#1085;&#1099;&#1084;%20&#1079;&#1074;&#1091;&#1082;&#1086;&#1084;%20&#1054;.%20&#1091;&#1095;-&#1083;&#1086;&#1075;&#1086;&#1087;&#1077;&#1076;%20&#1044;&#1086;&#1073;&#1088;&#1099;&#1085;&#1080;&#1085;&#1072;%20&#1054;.&#1042;..ppt#Slide 1" TargetMode="External"/><Relationship Id="rId9" Type="http://schemas.openxmlformats.org/officeDocument/2006/relationships/hyperlink" Target="file:///3%20&#1048;&#1075;&#1088;&#1099;%20&#1089;%20&#1075;&#1083;&#1072;&#1089;&#1085;&#1099;&#1084;%20&#1079;&#1074;&#1091;&#1082;&#1086;&#1084;%20&#1054;.%20&#1091;&#1095;-&#1083;&#1086;&#1075;&#1086;&#1087;&#1077;&#1076;%20&#1044;&#1086;&#1073;&#1088;&#1099;&#1085;&#1080;&#1085;&#1072;%20&#1054;.&#1042;..ppt#Slide 1" TargetMode="External"/><Relationship Id="rId10" Type="http://schemas.openxmlformats.org/officeDocument/2006/relationships/image" Target="../media/image14.png"/><Relationship Id="rId11" Type="http://schemas.openxmlformats.org/officeDocument/2006/relationships/hyperlink" Target="file:///4%20&#1048;&#1075;&#1088;&#1099;%20&#1089;%20&#1075;&#1083;&#1072;&#1089;&#1085;&#1099;&#1084;&#1080;%20&#1079;&#1074;&#1091;&#1082;&#1072;&#1084;&#1080;%20&#1048;,%20&#1067;.%20&#1091;&#1095;-&#1083;&#1086;&#1075;&#1086;&#1087;&#1077;&#1076;%20%20&#1044;&#1086;&#1073;&#1088;&#1099;&#1085;&#1080;&#1085;&#1072;%20&#1054;.&#1042;..ppt#10. &#1057;&#1083;&#1072;&#1081;&#1076; 10" TargetMode="External"/><Relationship Id="rId12" Type="http://schemas.openxmlformats.org/officeDocument/2006/relationships/image" Target="../media/image15.png"/><Relationship Id="rId13" Type="http://schemas.openxmlformats.org/officeDocument/2006/relationships/hyperlink" Target="file:///4%20&#1048;&#1075;&#1088;&#1099;%20&#1089;%20&#1075;&#1083;&#1072;&#1089;&#1085;&#1099;&#1084;&#1080;%20&#1079;&#1074;&#1091;&#1082;&#1072;&#1084;&#1080;%20&#1048;,%20&#1067;.%20&#1091;&#1095;-&#1083;&#1086;&#1075;&#1086;&#1087;&#1077;&#1076;%20%20&#1044;&#1086;&#1073;&#1088;&#1099;&#1085;&#1080;&#1085;&#1072;%20&#1054;.&#1042;..ppt#Slide 1" TargetMode="External"/><Relationship Id="rId14" Type="http://schemas.openxmlformats.org/officeDocument/2006/relationships/slide" Target="slide3.xml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hyperlink" Target="file:///5%20&#1048;&#1075;&#1088;&#1099;%20&#1089;%20&#1075;&#1083;&#1072;&#1089;&#1085;&#1099;&#1084;%20&#1079;&#1074;&#1091;&#1082;&#1086;&#1084;%20&#1069;%20&#1044;&#1086;&#1073;&#1088;&#1099;&#1085;&#1080;&#1085;&#1072;%20&#1054;.&#1042;..pptx#Slide 1" TargetMode="External"/><Relationship Id="rId18" Type="http://schemas.openxmlformats.org/officeDocument/2006/relationships/hyperlink" Target="file:///5%20&#1048;&#1075;&#1088;&#1099;%20&#1089;%20&#1075;&#1083;&#1072;&#1089;&#1085;&#1099;&#1084;%20&#1079;&#1074;&#1091;&#1082;&#1086;&#1084;%20&#1069;.%20&#1091;&#1095;-&#1083;&#1086;&#1075;&#1086;&#1087;&#1077;&#1076;%20&#1044;&#1086;&#1073;&#1088;&#1099;&#1085;&#1080;&#1085;&#1072;%20&#1054;.&#1042;..ppt#Slide 1" TargetMode="External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hyperlink" Target="file:///1%20&#1048;&#1075;&#1088;&#1099;%20&#1089;%20&#1075;&#1083;&#1072;&#1089;&#1085;&#1099;&#1084;&#1080;%20&#1079;&#1074;&#1091;&#1082;&#1086;&#1084;%20&#1040;.%20&#1091;&#1095;-&#1083;&#1086;&#1075;&#1086;&#1087;&#1077;&#1076;%20&#1044;&#1086;&#1073;&#1088;&#1099;&#1085;&#1080;&#1085;&#1072;%20&#1054;.&#1042;..ppt#Slide 3" TargetMode="External"/><Relationship Id="rId5" Type="http://schemas.openxmlformats.org/officeDocument/2006/relationships/hyperlink" Target="file:///1%20&#1048;&#1075;&#1088;&#1099;%20&#1089;%20&#1075;&#1083;&#1072;&#1089;&#1085;&#1099;&#1084;&#1080;%20&#1079;&#1074;&#1091;&#1082;&#1086;&#1084;%20&#1040;.%20&#1091;&#1095;-&#1083;&#1086;&#1075;&#1086;&#1087;&#1077;&#1076;%20&#1044;&#1086;&#1073;&#1088;&#1099;&#1085;&#1080;&#1085;&#1072;%20&#1054;.&#1042;..ppt#Slide 3" TargetMode="External"/><Relationship Id="rId6" Type="http://schemas.openxmlformats.org/officeDocument/2006/relationships/image" Target="../media/image21.png"/><Relationship Id="rId7" Type="http://schemas.openxmlformats.org/officeDocument/2006/relationships/hyperlink" Target="file:///2%20&#1048;&#1075;&#1088;&#1099;%20&#1089;%20&#1075;&#1083;&#1072;&#1089;&#1085;&#1099;&#1084;%20&#1079;&#1074;&#1091;&#1082;&#1086;&#1084;%20&#1059;.%20&#1091;&#1095;-&#1083;&#1086;&#1075;&#1086;&#1087;&#1077;&#1076;%20&#1044;&#1086;&#1073;&#1088;&#1099;&#1085;&#1080;&#1085;&#1072;%20&#1054;.&#1042;..ppt#Slide 5" TargetMode="External"/><Relationship Id="rId8" Type="http://schemas.openxmlformats.org/officeDocument/2006/relationships/image" Target="../media/image22.png"/><Relationship Id="rId9" Type="http://schemas.openxmlformats.org/officeDocument/2006/relationships/hyperlink" Target="file:///3%20&#1048;&#1075;&#1088;&#1099;%20&#1089;%20&#1075;&#1083;&#1072;&#1089;&#1085;&#1099;&#1084;%20&#1079;&#1074;&#1091;&#1082;&#1086;&#1084;%20&#1054;.%20&#1091;&#1095;-&#1083;&#1086;&#1075;&#1086;&#1087;&#1077;&#1076;%20&#1044;&#1086;&#1073;&#1088;&#1099;&#1085;&#1080;&#1085;&#1072;%20&#1054;.&#1042;..ppt#Slide 2" TargetMode="External"/><Relationship Id="rId10" Type="http://schemas.openxmlformats.org/officeDocument/2006/relationships/image" Target="../media/image23.png"/><Relationship Id="rId11" Type="http://schemas.openxmlformats.org/officeDocument/2006/relationships/hyperlink" Target="file:///4%20&#1048;&#1075;&#1088;&#1099;%20&#1089;%20&#1075;&#1083;&#1072;&#1089;&#1085;&#1099;&#1084;&#1080;%20&#1079;&#1074;&#1091;&#1082;&#1072;&#1084;&#1080;%20&#1048;,%20&#1067;.%20&#1091;&#1095;-&#1083;&#1086;&#1075;&#1086;&#1087;&#1077;&#1076;%20%20&#1044;&#1086;&#1073;&#1088;&#1099;&#1085;&#1080;&#1085;&#1072;%20&#1054;.&#1042;..ppt#Slide 4" TargetMode="External"/><Relationship Id="rId12" Type="http://schemas.openxmlformats.org/officeDocument/2006/relationships/image" Target="../media/image24.png"/><Relationship Id="rId13" Type="http://schemas.openxmlformats.org/officeDocument/2006/relationships/hyperlink" Target="file:///4%20&#1048;&#1075;&#1088;&#1099;%20&#1089;%20&#1075;&#1083;&#1072;&#1089;&#1085;&#1099;&#1084;&#1080;%20&#1079;&#1074;&#1091;&#1082;&#1072;&#1084;&#1080;%20&#1048;,%20&#1067;.%20&#1091;&#1095;-&#1083;&#1086;&#1075;&#1086;&#1087;&#1077;&#1076;%20%20&#1044;&#1086;&#1073;&#1088;&#1099;&#1085;&#1080;&#1085;&#1072;%20&#1054;.&#1042;..ppt#11. &#1057;&#1083;&#1072;&#1081;&#1076; 11" TargetMode="External"/><Relationship Id="rId14" Type="http://schemas.openxmlformats.org/officeDocument/2006/relationships/image" Target="../media/image25.png"/><Relationship Id="rId15" Type="http://schemas.openxmlformats.org/officeDocument/2006/relationships/hyperlink" Target="file:///5%20&#1048;&#1075;&#1088;&#1099;%20&#1089;%20&#1075;&#1083;&#1072;&#1089;&#1085;&#1099;&#1084;%20&#1079;&#1074;&#1091;&#1082;&#1086;&#1084;%20&#1069;.%20&#1091;&#1095;-&#1083;&#1086;&#1075;&#1086;&#1087;&#1077;&#1076;%20&#1044;&#1086;&#1073;&#1088;&#1099;&#1085;&#1080;&#1085;&#1072;%20&#1054;.&#1042;..ppt#Slide 3" TargetMode="External"/><Relationship Id="rId16" Type="http://schemas.openxmlformats.org/officeDocument/2006/relationships/hyperlink" Target="file:///5%20&#1048;&#1075;&#1088;&#1099;%20&#1089;%20&#1075;&#1083;&#1072;&#1089;&#1085;&#1099;&#1084;%20&#1079;&#1074;&#1091;&#1082;&#1086;&#1084;%20&#1069;.%20&#1091;&#1095;-&#1083;&#1086;&#1075;&#1086;&#1087;&#1077;&#1076;%20&#1044;&#1086;&#1073;&#1088;&#1099;&#1085;&#1080;&#1085;&#1072;%20&#1054;.&#1042;..ppt#Slide 3" TargetMode="External"/><Relationship Id="rId17" Type="http://schemas.openxmlformats.org/officeDocument/2006/relationships/slide" Target="slide3.xml"/><Relationship Id="rId18" Type="http://schemas.openxmlformats.org/officeDocument/2006/relationships/image" Target="../media/image16.png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0.png"/><Relationship Id="rId4" Type="http://schemas.openxmlformats.org/officeDocument/2006/relationships/hyperlink" Target="file:///1%20&#1048;&#1075;&#1088;&#1099;%20&#1089;%20&#1075;&#1083;&#1072;&#1089;&#1085;&#1099;&#1084;&#1080;%20&#1079;&#1074;&#1091;&#1082;&#1086;&#1084;%20&#1040;.%20&#1091;&#1095;-&#1083;&#1086;&#1075;&#1086;&#1087;&#1077;&#1076;%20&#1044;&#1086;&#1073;&#1088;&#1099;&#1085;&#1080;&#1085;&#1072;%20&#1054;.&#1042;..ppt#Slide 6" TargetMode="External"/><Relationship Id="rId5" Type="http://schemas.openxmlformats.org/officeDocument/2006/relationships/hyperlink" Target="file:///1%20&#1048;&#1075;&#1088;&#1099;%20&#1089;%20&#1075;&#1083;&#1072;&#1089;&#1085;&#1099;&#1084;&#1080;%20&#1079;&#1074;&#1091;&#1082;&#1086;&#1084;%20&#1040;.%20&#1091;&#1095;-&#1083;&#1086;&#1075;&#1086;&#1087;&#1077;&#1076;%20&#1044;&#1086;&#1073;&#1088;&#1099;&#1085;&#1080;&#1085;&#1072;%20&#1054;.&#1042;..ppt#Slide 6" TargetMode="External"/><Relationship Id="rId6" Type="http://schemas.openxmlformats.org/officeDocument/2006/relationships/image" Target="../media/image21.png"/><Relationship Id="rId7" Type="http://schemas.openxmlformats.org/officeDocument/2006/relationships/hyperlink" Target="file:///2%20&#1048;&#1075;&#1088;&#1099;%20&#1089;%20&#1075;&#1083;&#1072;&#1089;&#1085;&#1099;&#1084;%20&#1079;&#1074;&#1091;&#1082;&#1086;&#1084;%20&#1059;.%20&#1091;&#1095;-&#1083;&#1086;&#1075;&#1086;&#1087;&#1077;&#1076;%20&#1044;&#1086;&#1073;&#1088;&#1099;&#1085;&#1080;&#1085;&#1072;%20&#1054;.&#1042;..ppt#Slide 4" TargetMode="External"/><Relationship Id="rId8" Type="http://schemas.openxmlformats.org/officeDocument/2006/relationships/image" Target="../media/image22.png"/><Relationship Id="rId9" Type="http://schemas.openxmlformats.org/officeDocument/2006/relationships/hyperlink" Target="file:///3%20&#1048;&#1075;&#1088;&#1099;%20&#1089;%20&#1075;&#1083;&#1072;&#1089;&#1085;&#1099;&#1084;%20&#1079;&#1074;&#1091;&#1082;&#1086;&#1084;%20&#1054;.%20&#1091;&#1095;-&#1083;&#1086;&#1075;&#1086;&#1087;&#1077;&#1076;%20&#1044;&#1086;&#1073;&#1088;&#1099;&#1085;&#1080;&#1085;&#1072;%20&#1054;.&#1042;..ppt#Slide 6" TargetMode="External"/><Relationship Id="rId10" Type="http://schemas.openxmlformats.org/officeDocument/2006/relationships/image" Target="../media/image23.png"/><Relationship Id="rId11" Type="http://schemas.openxmlformats.org/officeDocument/2006/relationships/hyperlink" Target="file:///4%20&#1048;&#1075;&#1088;&#1099;%20&#1089;%20&#1075;&#1083;&#1072;&#1089;&#1085;&#1099;&#1084;&#1080;%20&#1079;&#1074;&#1091;&#1082;&#1072;&#1084;&#1080;%20&#1048;,%20&#1067;.%20&#1091;&#1095;-&#1083;&#1086;&#1075;&#1086;&#1087;&#1077;&#1076;%20%20&#1044;&#1086;&#1073;&#1088;&#1099;&#1085;&#1080;&#1085;&#1072;%20&#1054;.&#1042;..ppt#12. &#1057;&#1083;&#1072;&#1081;&#1076; 12" TargetMode="External"/><Relationship Id="rId12" Type="http://schemas.openxmlformats.org/officeDocument/2006/relationships/image" Target="../media/image24.png"/><Relationship Id="rId13" Type="http://schemas.openxmlformats.org/officeDocument/2006/relationships/hyperlink" Target="file:///4%20&#1048;&#1075;&#1088;&#1099;%20&#1089;%20&#1075;&#1083;&#1072;&#1089;&#1085;&#1099;&#1084;&#1080;%20&#1079;&#1074;&#1091;&#1082;&#1072;&#1084;&#1080;%20&#1048;,%20&#1067;.%20&#1091;&#1095;-&#1083;&#1086;&#1075;&#1086;&#1087;&#1077;&#1076;%20%20&#1044;&#1086;&#1073;&#1088;&#1099;&#1085;&#1080;&#1085;&#1072;%20&#1054;.&#1042;..ppt#12. &#1057;&#1083;&#1072;&#1081;&#1076; 12" TargetMode="External"/><Relationship Id="rId14" Type="http://schemas.openxmlformats.org/officeDocument/2006/relationships/image" Target="../media/image25.png"/><Relationship Id="rId15" Type="http://schemas.openxmlformats.org/officeDocument/2006/relationships/hyperlink" Target="file:///5%20&#1048;&#1075;&#1088;&#1099;%20&#1089;%20&#1075;&#1083;&#1072;&#1089;&#1085;&#1099;&#1084;%20&#1079;&#1074;&#1091;&#1082;&#1086;&#1084;%20&#1069;.%20&#1091;&#1095;-&#1083;&#1086;&#1075;&#1086;&#1087;&#1077;&#1076;%20&#1044;&#1086;&#1073;&#1088;&#1099;&#1085;&#1080;&#1085;&#1072;%20&#1054;.&#1042;..ppt#Slide 5" TargetMode="External"/><Relationship Id="rId16" Type="http://schemas.openxmlformats.org/officeDocument/2006/relationships/hyperlink" Target="file:///5%20&#1048;&#1075;&#1088;&#1099;%20&#1089;%20&#1075;&#1083;&#1072;&#1089;&#1085;&#1099;&#1084;%20&#1079;&#1074;&#1091;&#1082;&#1086;&#1084;%20&#1069;.%20&#1091;&#1095;-&#1083;&#1086;&#1075;&#1086;&#1087;&#1077;&#1076;%20&#1044;&#1086;&#1073;&#1088;&#1099;&#1085;&#1080;&#1085;&#1072;%20&#1054;.&#1042;..ppt#Slide 5" TargetMode="External"/><Relationship Id="rId17" Type="http://schemas.openxmlformats.org/officeDocument/2006/relationships/slide" Target="slide3.xml"/><Relationship Id="rId18" Type="http://schemas.openxmlformats.org/officeDocument/2006/relationships/image" Target="../media/image16.png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hyperlink" Target="file:///1%20&#1048;&#1075;&#1088;&#1099;%20&#1089;%20&#1075;&#1083;&#1072;&#1089;&#1085;&#1099;&#1084;&#1080;%20&#1079;&#1074;&#1091;&#1082;&#1086;&#1084;%20&#1040;.%20&#1091;&#1095;-&#1083;&#1086;&#1075;&#1086;&#1087;&#1077;&#1076;%20&#1044;&#1086;&#1073;&#1088;&#1099;&#1085;&#1080;&#1085;&#1072;%20&#1054;.&#1042;..ppt#Slide 12" TargetMode="External"/><Relationship Id="rId5" Type="http://schemas.openxmlformats.org/officeDocument/2006/relationships/image" Target="../media/image31.png"/><Relationship Id="rId6" Type="http://schemas.openxmlformats.org/officeDocument/2006/relationships/hyperlink" Target="file:///2%20&#1048;&#1075;&#1088;&#1099;%20&#1089;%20&#1075;&#1083;&#1072;&#1089;&#1085;&#1099;&#1084;%20&#1079;&#1074;&#1091;&#1082;&#1086;&#1084;%20&#1059;.%20&#1091;&#1095;-&#1083;&#1086;&#1075;&#1086;&#1087;&#1077;&#1076;%20&#1044;&#1086;&#1073;&#1088;&#1099;&#1085;&#1080;&#1085;&#1072;%20&#1054;.&#1042;..ppt#Slide 3" TargetMode="External"/><Relationship Id="rId7" Type="http://schemas.openxmlformats.org/officeDocument/2006/relationships/hyperlink" Target="file:///2%20&#1048;&#1075;&#1088;&#1099;%20&#1089;%20&#1075;&#1083;&#1072;&#1089;&#1085;&#1099;&#1084;%20&#1079;&#1074;&#1091;&#1082;&#1086;&#1084;%20&#1059;.%20&#1091;&#1095;-&#1083;&#1086;&#1075;&#1086;&#1087;&#1077;&#1076;%20&#1044;&#1086;&#1073;&#1088;&#1099;&#1085;&#1080;&#1085;&#1072;%20&#1054;.&#1042;..ppt#Slide 3" TargetMode="External"/><Relationship Id="rId8" Type="http://schemas.openxmlformats.org/officeDocument/2006/relationships/image" Target="../media/image32.png"/><Relationship Id="rId9" Type="http://schemas.openxmlformats.org/officeDocument/2006/relationships/slide" Target="slide3.xml"/><Relationship Id="rId10" Type="http://schemas.openxmlformats.org/officeDocument/2006/relationships/image" Target="../media/image16.png"/><Relationship Id="rId11" Type="http://schemas.openxmlformats.org/officeDocument/2006/relationships/image" Target="../media/image4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hyperlink" Target="file:///4%20&#1048;&#1075;&#1088;&#1099;%20&#1089;%20&#1075;&#1083;&#1072;&#1089;&#1085;&#1099;&#1084;&#1080;%20&#1079;&#1074;&#1091;&#1082;&#1072;&#1084;&#1080;%20&#1048;,%20&#1067;.%20&#1091;&#1095;-&#1083;&#1086;&#1075;&#1086;&#1087;&#1077;&#1076;%20%20&#1044;&#1086;&#1073;&#1088;&#1099;&#1085;&#1080;&#1085;&#1072;%20&#1054;.&#1042;..ppt#Slide 3" TargetMode="External"/><Relationship Id="rId15" Type="http://schemas.openxmlformats.org/officeDocument/2006/relationships/hyperlink" Target="file:///4%20&#1048;&#1075;&#1088;&#1099;%20&#1089;%20&#1075;&#1083;&#1072;&#1089;&#1085;&#1099;&#1084;&#1080;%20&#1079;&#1074;&#1091;&#1082;&#1072;&#1084;&#1080;%20&#1048;,%20&#1067;.%20&#1091;&#1095;-&#1083;&#1086;&#1075;&#1086;&#1087;&#1077;&#1076;%20%20&#1044;&#1086;&#1073;&#1088;&#1099;&#1085;&#1080;&#1085;&#1072;%20&#1054;.&#1042;..ppt#Slide 3" TargetMode="External"/><Relationship Id="rId16" Type="http://schemas.openxmlformats.org/officeDocument/2006/relationships/image" Target="../media/image35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" Target="slide3.xml"/><Relationship Id="rId4" Type="http://schemas.openxmlformats.org/officeDocument/2006/relationships/image" Target="../media/image16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hyperlink" Target="file:///4%20&#1048;&#1075;&#1088;&#1099;%20&#1089;%20&#1075;&#1083;&#1072;&#1089;&#1085;&#1099;&#1084;&#1080;%20&#1079;&#1074;&#1091;&#1082;&#1072;&#1084;&#1080;%20&#1048;,%20&#1067;.%20&#1091;&#1095;-&#1083;&#1086;&#1075;&#1086;&#1087;&#1077;&#1076;%20%20&#1044;&#1086;&#1073;&#1088;&#1099;&#1085;&#1080;&#1085;&#1072;%20&#1054;.&#1042;..ppt#Slide 5" TargetMode="External"/><Relationship Id="rId10" Type="http://schemas.openxmlformats.org/officeDocument/2006/relationships/image" Target="../media/image42.png"/><Relationship Id="rId11" Type="http://schemas.openxmlformats.org/officeDocument/2006/relationships/image" Target="../media/image4.png"/><Relationship Id="rId12" Type="http://schemas.openxmlformats.org/officeDocument/2006/relationships/image" Target="../media/image43.png"/><Relationship Id="rId13" Type="http://schemas.openxmlformats.org/officeDocument/2006/relationships/hyperlink" Target="file:///5%20&#1048;&#1075;&#1088;&#1099;%20&#1089;%20&#1075;&#1083;&#1072;&#1089;&#1085;&#1099;&#1084;%20&#1079;&#1074;&#1091;&#1082;&#1086;&#1084;%20&#1069;.%20&#1091;&#1095;-&#1083;&#1086;&#1075;&#1086;&#1087;&#1077;&#1076;%20&#1044;&#1086;&#1073;&#1088;&#1099;&#1085;&#1080;&#1085;&#1072;%20&#1054;.&#1042;..ppt#Slide 6" TargetMode="Externa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hyperlink" Target="file:///1%20&#1048;&#1075;&#1088;&#1099;%20&#1089;%20&#1075;&#1083;&#1072;&#1089;&#1085;&#1099;&#1084;&#1080;%20&#1079;&#1074;&#1091;&#1082;&#1086;&#1084;%20&#1040;.%20&#1091;&#1095;-&#1083;&#1086;&#1075;&#1086;&#1087;&#1077;&#1076;%20&#1044;&#1086;&#1073;&#1088;&#1099;&#1085;&#1080;&#1085;&#1072;%20&#1054;.&#1042;..ppt#Slide 15" TargetMode="External"/><Relationship Id="rId8" Type="http://schemas.openxmlformats.org/officeDocument/2006/relationships/image" Target="../media/image50.png"/><Relationship Id="rId9" Type="http://schemas.openxmlformats.org/officeDocument/2006/relationships/hyperlink" Target="file:///5%20&#1048;&#1075;&#1088;&#1099;%20&#1089;%20&#1075;&#1083;&#1072;&#1089;&#1085;&#1099;&#1084;%20&#1079;&#1074;&#1091;&#1082;&#1086;&#1084;%20&#1069;.%20&#1091;&#1095;-&#1083;&#1086;&#1075;&#1086;&#1087;&#1077;&#1076;%20&#1044;&#1086;&#1073;&#1088;&#1099;&#1085;&#1080;&#1085;&#1072;%20&#1054;.&#1042;..ppt#Slide 8" TargetMode="External"/><Relationship Id="rId10" Type="http://schemas.openxmlformats.org/officeDocument/2006/relationships/image" Target="../media/image51.png"/><Relationship Id="rId11" Type="http://schemas.openxmlformats.org/officeDocument/2006/relationships/hyperlink" Target="file:///4%20&#1048;&#1075;&#1088;&#1099;%20&#1089;%20&#1075;&#1083;&#1072;&#1089;&#1085;&#1099;&#1084;&#1080;%20&#1079;&#1074;&#1091;&#1082;&#1072;&#1084;&#1080;%20&#1048;,%20&#1067;.%20&#1091;&#1095;-&#1083;&#1086;&#1075;&#1086;&#1087;&#1077;&#1076;%20%20&#1044;&#1086;&#1073;&#1088;&#1099;&#1085;&#1080;&#1085;&#1072;%20&#1054;.&#1042;..ppt#Slide 14" TargetMode="External"/><Relationship Id="rId12" Type="http://schemas.openxmlformats.org/officeDocument/2006/relationships/hyperlink" Target="file:///4%20&#1048;&#1075;&#1088;&#1099;%20&#1089;%20&#1075;&#1083;&#1072;&#1089;&#1085;&#1099;&#1084;&#1080;%20&#1079;&#1074;&#1091;&#1082;&#1072;&#1084;&#1080;%20&#1048;,%20&#1067;%20&#1044;&#1086;&#1073;&#1088;&#1099;&#1085;&#1080;&#1085;&#1072;%20&#1054;.&#1042;..ppt" TargetMode="External"/><Relationship Id="rId13" Type="http://schemas.openxmlformats.org/officeDocument/2006/relationships/image" Target="../media/image52.png"/><Relationship Id="rId14" Type="http://schemas.openxmlformats.org/officeDocument/2006/relationships/hyperlink" Target="file:///4%20&#1048;&#1075;&#1088;&#1099;%20&#1089;%20&#1075;&#1083;&#1072;&#1089;&#1085;&#1099;&#1084;&#1080;%20&#1079;&#1074;&#1091;&#1082;&#1072;&#1084;&#1080;%20&#1048;,%20&#1067;.%20&#1091;&#1095;-&#1083;&#1086;&#1075;&#1086;&#1087;&#1077;&#1076;%20%20&#1044;&#1086;&#1073;&#1088;&#1099;&#1085;&#1080;&#1085;&#1072;%20&#1054;.&#1042;..ppt#9. &#1057;&#1083;&#1072;&#1081;&#1076; 9" TargetMode="External"/><Relationship Id="rId15" Type="http://schemas.openxmlformats.org/officeDocument/2006/relationships/image" Target="../media/image53.png"/><Relationship Id="rId16" Type="http://schemas.openxmlformats.org/officeDocument/2006/relationships/hyperlink" Target="file:///2%20&#1048;&#1075;&#1088;&#1099;%20&#1089;%20&#1075;&#1083;&#1072;&#1089;&#1085;&#1099;&#1084;%20&#1079;&#1074;&#1091;&#1082;&#1086;&#1084;%20&#1059;.%20&#1091;&#1095;-&#1083;&#1086;&#1075;&#1086;&#1087;&#1077;&#1076;%20&#1044;&#1086;&#1073;&#1088;&#1099;&#1085;&#1080;&#1085;&#1072;%20&#1054;.&#1042;..ppt#Slide 8" TargetMode="External"/><Relationship Id="rId17" Type="http://schemas.openxmlformats.org/officeDocument/2006/relationships/image" Target="../media/image54.png"/><Relationship Id="rId18" Type="http://schemas.openxmlformats.org/officeDocument/2006/relationships/hyperlink" Target="file:///1%20&#1048;&#1075;&#1088;&#1099;%20&#1089;%20&#1075;&#1083;&#1072;&#1089;&#1085;&#1099;&#1084;&#1080;%20&#1079;&#1074;&#1091;&#1082;&#1086;&#1084;%20&#1040;.%20&#1091;&#1095;-&#1083;&#1086;&#1075;&#1086;&#1087;&#1077;&#1076;%20&#1044;&#1086;&#1073;&#1088;&#1099;&#1085;&#1080;&#1085;&#1072;%20&#1054;.&#1042;..ppt#Slide 14" TargetMode="External"/><Relationship Id="rId19" Type="http://schemas.openxmlformats.org/officeDocument/2006/relationships/image" Target="../media/image55.png"/><Relationship Id="rId20" Type="http://schemas.openxmlformats.org/officeDocument/2006/relationships/hyperlink" Target="file:///1%20&#1048;&#1075;&#1088;&#1099;%20&#1089;%20&#1075;&#1083;&#1072;&#1089;&#1085;&#1099;&#1084;&#1080;%20&#1079;&#1074;&#1091;&#1082;&#1086;&#1084;%20&#1040;.%20&#1091;&#1095;-&#1083;&#1086;&#1075;&#1086;&#1087;&#1077;&#1076;%20&#1044;&#1086;&#1073;&#1088;&#1099;&#1085;&#1080;&#1085;&#1072;%20&#1054;.&#1042;..ppt#Slide 13" TargetMode="External"/><Relationship Id="rId21" Type="http://schemas.openxmlformats.org/officeDocument/2006/relationships/image" Target="../media/image56.png"/><Relationship Id="rId22" Type="http://schemas.openxmlformats.org/officeDocument/2006/relationships/hyperlink" Target="file:///2%20&#1048;&#1075;&#1088;&#1099;%20&#1089;%20&#1075;&#1083;&#1072;&#1089;&#1085;&#1099;&#1084;%20&#1079;&#1074;&#1091;&#1082;&#1086;&#1084;%20&#1059;.%20&#1091;&#1095;-&#1083;&#1086;&#1075;&#1086;&#1087;&#1077;&#1076;%20&#1044;&#1086;&#1073;&#1088;&#1099;&#1085;&#1080;&#1085;&#1072;%20&#1054;.&#1042;..ppt#Slide 7" TargetMode="External"/><Relationship Id="rId23" Type="http://schemas.openxmlformats.org/officeDocument/2006/relationships/image" Target="../media/image57.png"/><Relationship Id="rId24" Type="http://schemas.openxmlformats.org/officeDocument/2006/relationships/hyperlink" Target="file:///4%20&#1048;&#1075;&#1088;&#1099;%20&#1089;%20&#1075;&#1083;&#1072;&#1089;&#1085;&#1099;&#1084;&#1080;%20&#1079;&#1074;&#1091;&#1082;&#1072;&#1084;&#1080;%20&#1048;,%20&#1067;.%20&#1091;&#1095;-&#1083;&#1086;&#1075;&#1086;&#1087;&#1077;&#1076;%20%20&#1044;&#1086;&#1073;&#1088;&#1099;&#1085;&#1080;&#1085;&#1072;%20&#1054;.&#1042;..ppt#Slide 8" TargetMode="External"/><Relationship Id="rId25" Type="http://schemas.openxmlformats.org/officeDocument/2006/relationships/image" Target="../media/image51.png"/><Relationship Id="rId26" Type="http://schemas.openxmlformats.org/officeDocument/2006/relationships/hyperlink" Target="file:///4%20&#1048;&#1075;&#1088;&#1099;%20&#1089;%20&#1075;&#1083;&#1072;&#1089;&#1085;&#1099;&#1084;&#1080;%20&#1079;&#1074;&#1091;&#1082;&#1072;&#1084;&#1080;%20&#1048;,%20&#1067;.%20&#1091;&#1095;-&#1083;&#1086;&#1075;&#1086;&#1087;&#1077;&#1076;%20%20&#1044;&#1086;&#1073;&#1088;&#1099;&#1085;&#1080;&#1085;&#1072;%20&#1054;.&#1042;..ppt#Slide 13" TargetMode="External"/><Relationship Id="rId27" Type="http://schemas.openxmlformats.org/officeDocument/2006/relationships/image" Target="../media/image58.png"/><Relationship Id="rId28" Type="http://schemas.openxmlformats.org/officeDocument/2006/relationships/hyperlink" Target="file:///5%20&#1048;&#1075;&#1088;&#1099;%20&#1089;%20&#1075;&#1083;&#1072;&#1089;&#1085;&#1099;&#1084;%20&#1079;&#1074;&#1091;&#1082;&#1086;&#1084;%20&#1069;.%20&#1091;&#1095;-&#1083;&#1086;&#1075;&#1086;&#1087;&#1077;&#1076;%20&#1044;&#1086;&#1073;&#1088;&#1099;&#1085;&#1080;&#1085;&#1072;%20&#1054;.&#1042;..ppt#Slide 7" TargetMode="External"/><Relationship Id="rId29" Type="http://schemas.openxmlformats.org/officeDocument/2006/relationships/image" Target="../media/image59.png"/><Relationship Id="rId30" Type="http://schemas.openxmlformats.org/officeDocument/2006/relationships/hyperlink" Target="file:///3%20&#1048;&#1075;&#1088;&#1099;%20&#1089;%20&#1075;&#1083;&#1072;&#1089;&#1085;&#1099;&#1084;%20&#1079;&#1074;&#1091;&#1082;&#1086;&#1084;%20&#1054;.%20&#1091;&#1095;-&#1083;&#1086;&#1075;&#1086;&#1087;&#1077;&#1076;%20&#1044;&#1086;&#1073;&#1088;&#1099;&#1085;&#1080;&#1085;&#1072;%20&#1054;.&#1042;..ppt#Slide 9" TargetMode="External"/><Relationship Id="rId31" Type="http://schemas.openxmlformats.org/officeDocument/2006/relationships/image" Target="../media/image53.png"/><Relationship Id="rId32" Type="http://schemas.openxmlformats.org/officeDocument/2006/relationships/hyperlink" Target="file:///2%20&#1048;&#1075;&#1088;&#1099;%20&#1089;%20&#1075;&#1083;&#1072;&#1089;&#1085;&#1099;&#1084;%20&#1079;&#1074;&#1091;&#1082;&#1086;&#1084;%20&#1059;.%20&#1091;&#1095;-&#1083;&#1086;&#1075;&#1086;&#1087;&#1077;&#1076;%20&#1044;&#1086;&#1073;&#1088;&#1099;&#1085;&#1080;&#1085;&#1072;%20&#1054;.&#1042;..ppt#Slide 9" TargetMode="External"/><Relationship Id="rId33" Type="http://schemas.openxmlformats.org/officeDocument/2006/relationships/image" Target="../media/image4.png"/><Relationship Id="rId34" Type="http://schemas.openxmlformats.org/officeDocument/2006/relationships/slide" Target="slide3.xml"/><Relationship Id="rId35" Type="http://schemas.openxmlformats.org/officeDocument/2006/relationships/image" Target="../media/image16.png"/><Relationship Id="rId36" Type="http://schemas.openxmlformats.org/officeDocument/2006/relationships/image" Target="../media/image59.png"/><Relationship Id="rId37" Type="http://schemas.openxmlformats.org/officeDocument/2006/relationships/hyperlink" Target="file:///3%20&#1048;&#1075;&#1088;&#1099;%20&#1089;%20&#1075;&#1083;&#1072;&#1089;&#1085;&#1099;&#1084;%20&#1079;&#1074;&#1091;&#1082;&#1086;&#1084;%20&#1054;.%20&#1091;&#1095;-&#1083;&#1086;&#1075;&#1086;&#1087;&#1077;&#1076;%20&#1044;&#1086;&#1073;&#1088;&#1099;&#1085;&#1080;&#1085;&#1072;%20&#1054;.&#1042;..ppt#Slide 10" TargetMode="External"/><Relationship Id="rId3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1" descr="best-12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4284720" y="1052640"/>
            <a:ext cx="2448000" cy="78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Monotype Corsiva"/>
                <a:hlinkClick r:id="rId2" action="ppaction://hlinksldjump"/>
              </a:rPr>
              <a:t>мен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TextBox 2"/>
          <p:cNvGrpSpPr/>
          <p:nvPr/>
        </p:nvGrpSpPr>
        <p:grpSpPr>
          <a:xfrm>
            <a:off x="2871720" y="6242040"/>
            <a:ext cx="2584440" cy="708120"/>
            <a:chOff x="2871720" y="6242040"/>
            <a:chExt cx="2584440" cy="708120"/>
          </a:xfrm>
        </p:grpSpPr>
        <p:pic>
          <p:nvPicPr>
            <p:cNvPr id="44" name="TextBox 2" descr=""/>
            <p:cNvPicPr/>
            <p:nvPr/>
          </p:nvPicPr>
          <p:blipFill>
            <a:blip r:embed="rId3"/>
            <a:stretch/>
          </p:blipFill>
          <p:spPr>
            <a:xfrm>
              <a:off x="2871720" y="6242040"/>
              <a:ext cx="258444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916360" y="6334200"/>
              <a:ext cx="24476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4" action="ppaction://hlinksldjump"/>
                </a:rPr>
                <a:t>авт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TextBox 3"/>
          <p:cNvGrpSpPr/>
          <p:nvPr/>
        </p:nvGrpSpPr>
        <p:grpSpPr>
          <a:xfrm>
            <a:off x="4170240" y="4164120"/>
            <a:ext cx="2584440" cy="865080"/>
            <a:chOff x="4170240" y="4164120"/>
            <a:chExt cx="2584440" cy="865080"/>
          </a:xfrm>
        </p:grpSpPr>
        <p:pic>
          <p:nvPicPr>
            <p:cNvPr id="47" name="TextBox 3" descr=""/>
            <p:cNvPicPr/>
            <p:nvPr/>
          </p:nvPicPr>
          <p:blipFill>
            <a:blip r:embed="rId5"/>
            <a:stretch/>
          </p:blipFill>
          <p:spPr>
            <a:xfrm>
              <a:off x="4170240" y="4164120"/>
              <a:ext cx="25844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211640" y="4292640"/>
              <a:ext cx="244800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6" action="ppaction://hlinksldjump"/>
                </a:rPr>
                <a:t>описа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Box 4"/>
          <p:cNvSpPr/>
          <p:nvPr/>
        </p:nvSpPr>
        <p:spPr>
          <a:xfrm>
            <a:off x="0" y="2205000"/>
            <a:ext cx="1619280" cy="57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Monotype Corsiva"/>
                <a:hlinkClick r:id="rId7" action="ppaction://hlinksldjump"/>
              </a:rPr>
              <a:t>ссы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Круглая лента лицом вверх 6"/>
          <p:cNvSpPr/>
          <p:nvPr/>
        </p:nvSpPr>
        <p:spPr>
          <a:xfrm>
            <a:off x="468360" y="189000"/>
            <a:ext cx="8280360" cy="1092240"/>
          </a:xfrm>
          <a:custGeom>
            <a:avLst/>
            <a:gdLst>
              <a:gd name="textAreaLeft" fmla="*/ 1107000 w 8280360"/>
              <a:gd name="textAreaRight" fmla="*/ 7173360 w 8280360"/>
              <a:gd name="textAreaTop" fmla="*/ 141480 h 1092240"/>
              <a:gd name="textAreaBottom" fmla="*/ 61128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9509"/>
                </a:moveTo>
                <a:arcTo wR="21600" hR="40306" stAng="-6431526" swAng="316781"/>
                <a:lnTo>
                  <a:pt x="2888" y="2801"/>
                </a:lnTo>
                <a:arcTo wR="21600" hR="40306" stAng="-6114745" swAng="1429490"/>
                <a:lnTo>
                  <a:pt x="18712" y="6910"/>
                </a:lnTo>
                <a:arcTo wR="21600" hR="40306" stAng="-4685255" swAng="316781"/>
                <a:lnTo>
                  <a:pt x="18900" y="13096"/>
                </a:lnTo>
                <a:lnTo>
                  <a:pt x="21600" y="21600"/>
                </a:lnTo>
                <a:lnTo>
                  <a:pt x="21600" y="21600"/>
                </a:lnTo>
                <a:arcTo wR="21600" hR="40306" stAng="-4368474" swAng="-576138"/>
                <a:lnTo>
                  <a:pt x="16012" y="13282"/>
                </a:lnTo>
                <a:arcTo wR="21600" hR="40306" stAng="-4944612" swAng="-910777"/>
                <a:lnTo>
                  <a:pt x="5588" y="17391"/>
                </a:lnTo>
                <a:arcTo wR="21600" hR="40306" stAng="-5855388" swAng="-576138"/>
                <a:lnTo>
                  <a:pt x="2700" y="13096"/>
                </a:lnTo>
                <a:close/>
              </a:path>
              <a:path fill="none" w="21600" h="21600">
                <a:moveTo>
                  <a:pt x="5588" y="13282"/>
                </a:moveTo>
                <a:arcTo wR="21600" hR="40306" stAng="-5855388" swAng="-259357"/>
                <a:lnTo>
                  <a:pt x="5588" y="17391"/>
                </a:lnTo>
              </a:path>
              <a:path fill="none" w="21600" h="21600">
                <a:moveTo>
                  <a:pt x="16012" y="13282"/>
                </a:moveTo>
                <a:arcTo wR="21600" hR="40306" stAng="-4944612" swAng="259357"/>
                <a:lnTo>
                  <a:pt x="16012" y="17391"/>
                </a:lnTo>
              </a:path>
              <a:path fill="none" w="21600" h="21600">
                <a:moveTo>
                  <a:pt x="2888" y="6910"/>
                </a:moveTo>
                <a:lnTo>
                  <a:pt x="2888" y="14892"/>
                </a:lnTo>
              </a:path>
              <a:path fill="none" w="21600" h="21600">
                <a:moveTo>
                  <a:pt x="18712" y="6910"/>
                </a:moveTo>
                <a:lnTo>
                  <a:pt x="18712" y="14892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ГРЫ С ГЛАСНЫМИ ЗВУКАМИ И БУКВАМ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Блок-схема: узел суммирования 8"/>
          <p:cNvGrpSpPr/>
          <p:nvPr/>
        </p:nvGrpSpPr>
        <p:grpSpPr>
          <a:xfrm>
            <a:off x="8431200" y="231840"/>
            <a:ext cx="487440" cy="450720"/>
            <a:chOff x="8431200" y="231840"/>
            <a:chExt cx="487440" cy="450720"/>
          </a:xfrm>
        </p:grpSpPr>
        <p:pic>
          <p:nvPicPr>
            <p:cNvPr id="52" name="Блок-схема: узел суммирования 8" descr="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8431200" y="231840"/>
              <a:ext cx="4874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523360" y="318960"/>
              <a:ext cx="3063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Управляющая кнопка: сведения 9">
            <a:hlinkClick r:id="rId9" action="ppaction://hlinksldjump"/>
          </p:cNvPr>
          <p:cNvSpPr/>
          <p:nvPr/>
        </p:nvSpPr>
        <p:spPr>
          <a:xfrm>
            <a:off x="4356000" y="126828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890" h="21600">
                <a:moveTo>
                  <a:pt x="1294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890" h="21600">
                <a:moveTo>
                  <a:pt x="10369" y="8224"/>
                </a:moveTo>
                <a:lnTo>
                  <a:pt x="14233" y="8224"/>
                </a:lnTo>
                <a:lnTo>
                  <a:pt x="14233" y="15221"/>
                </a:lnTo>
                <a:lnTo>
                  <a:pt x="15521" y="15221"/>
                </a:lnTo>
                <a:lnTo>
                  <a:pt x="15521" y="16144"/>
                </a:lnTo>
                <a:lnTo>
                  <a:pt x="10369" y="16144"/>
                </a:lnTo>
                <a:lnTo>
                  <a:pt x="10369" y="15221"/>
                </a:lnTo>
                <a:lnTo>
                  <a:pt x="11657" y="15221"/>
                </a:lnTo>
                <a:lnTo>
                  <a:pt x="11657" y="9129"/>
                </a:lnTo>
                <a:lnTo>
                  <a:pt x="10369" y="9129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правляющая кнопка: справка 10">
            <a:hlinkClick r:id="rId10" action="ppaction://hlinksldjump"/>
          </p:cNvPr>
          <p:cNvSpPr/>
          <p:nvPr/>
        </p:nvSpPr>
        <p:spPr>
          <a:xfrm>
            <a:off x="4140360" y="443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1293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868" h="21600">
                <a:moveTo>
                  <a:pt x="14040" y="14281"/>
                </a:moveTo>
                <a:lnTo>
                  <a:pt x="14040" y="12323"/>
                </a:lnTo>
                <a:cubicBezTo>
                  <a:pt x="14040" y="11496"/>
                  <a:pt x="14370" y="10800"/>
                  <a:pt x="14971" y="10800"/>
                </a:cubicBezTo>
                <a:cubicBezTo>
                  <a:pt x="16102" y="10800"/>
                  <a:pt x="16999" y="9434"/>
                  <a:pt x="16999" y="7849"/>
                </a:cubicBezTo>
                <a:cubicBezTo>
                  <a:pt x="16999" y="5534"/>
                  <a:pt x="15145" y="3794"/>
                  <a:pt x="12934" y="3794"/>
                </a:cubicBezTo>
                <a:cubicBezTo>
                  <a:pt x="10723" y="3794"/>
                  <a:pt x="9052" y="5534"/>
                  <a:pt x="9052" y="7849"/>
                </a:cubicBezTo>
                <a:lnTo>
                  <a:pt x="10906" y="7849"/>
                </a:lnTo>
                <a:cubicBezTo>
                  <a:pt x="10906" y="6709"/>
                  <a:pt x="11829" y="5821"/>
                  <a:pt x="12934" y="5821"/>
                </a:cubicBezTo>
                <a:cubicBezTo>
                  <a:pt x="14040" y="5821"/>
                  <a:pt x="14971" y="6709"/>
                  <a:pt x="14971" y="7849"/>
                </a:cubicBezTo>
                <a:cubicBezTo>
                  <a:pt x="14971" y="8589"/>
                  <a:pt x="14501" y="9320"/>
                  <a:pt x="14040" y="9320"/>
                </a:cubicBezTo>
                <a:cubicBezTo>
                  <a:pt x="12934" y="9320"/>
                  <a:pt x="11829" y="10800"/>
                  <a:pt x="11829" y="12323"/>
                </a:cubicBezTo>
                <a:lnTo>
                  <a:pt x="11829" y="14281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сылки на карти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images.yandex.r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gifportal.ru/135_2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edlib.ru/work_room/index.php?corner=pics&amp;alfa=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абина Г.В. «Альбом для обследования восприятия и произнесения слов различной структурной сложност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Пластилиновая азбука» Екатерина и Сергей Железнов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Управляющая кнопка: домой 4"/>
          <p:cNvGrpSpPr/>
          <p:nvPr/>
        </p:nvGrpSpPr>
        <p:grpSpPr>
          <a:xfrm>
            <a:off x="49320" y="5840280"/>
            <a:ext cx="474480" cy="517680"/>
            <a:chOff x="49320" y="5840280"/>
            <a:chExt cx="474480" cy="517680"/>
          </a:xfrm>
        </p:grpSpPr>
        <p:pic>
          <p:nvPicPr>
            <p:cNvPr id="273" name="Управляющая кнопка: домой 4" descr="">
              <a:hlinkClick r:id="" action="ppaction://hlinkshowjump?jump=firstslide"/>
            </p:cNvPr>
            <p:cNvPicPr/>
            <p:nvPr/>
          </p:nvPicPr>
          <p:blipFill>
            <a:blip r:embed="rId1"/>
            <a:stretch/>
          </p:blipFill>
          <p:spPr>
            <a:xfrm>
              <a:off x="49320" y="5840280"/>
              <a:ext cx="47448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08000" y="5877000"/>
              <a:ext cx="3603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Блок-схема: узел суммирования 5"/>
          <p:cNvGrpSpPr/>
          <p:nvPr/>
        </p:nvGrpSpPr>
        <p:grpSpPr>
          <a:xfrm>
            <a:off x="8431200" y="231840"/>
            <a:ext cx="487440" cy="450720"/>
            <a:chOff x="8431200" y="231840"/>
            <a:chExt cx="487440" cy="450720"/>
          </a:xfrm>
        </p:grpSpPr>
        <p:pic>
          <p:nvPicPr>
            <p:cNvPr id="276" name="Блок-схема: узел суммирования 5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8431200" y="231840"/>
              <a:ext cx="4874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8523360" y="318960"/>
              <a:ext cx="3063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1402920" y="2276640"/>
            <a:ext cx="5977080" cy="16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брынина Оксана Валентин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итель-логопед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БОУ д/с № 9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УО г. Моск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011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9" name="Управляющая кнопка: домой 3"/>
          <p:cNvGrpSpPr/>
          <p:nvPr/>
        </p:nvGrpSpPr>
        <p:grpSpPr>
          <a:xfrm>
            <a:off x="115920" y="5840280"/>
            <a:ext cx="480960" cy="517680"/>
            <a:chOff x="115920" y="5840280"/>
            <a:chExt cx="480960" cy="517680"/>
          </a:xfrm>
        </p:grpSpPr>
        <p:pic>
          <p:nvPicPr>
            <p:cNvPr id="280" name="Управляющая кнопка: домой 3" descr="">
              <a:hlinkClick r:id="" action="ppaction://hlinkshowjump?jump=firstslide"/>
            </p:cNvPr>
            <p:cNvPicPr/>
            <p:nvPr/>
          </p:nvPicPr>
          <p:blipFill>
            <a:blip r:embed="rId1"/>
            <a:stretch/>
          </p:blipFill>
          <p:spPr>
            <a:xfrm>
              <a:off x="115920" y="5840280"/>
              <a:ext cx="48096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179280" y="5877000"/>
              <a:ext cx="3603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extBox 1" descr=""/>
          <p:cNvPicPr/>
          <p:nvPr/>
        </p:nvPicPr>
        <p:blipFill>
          <a:blip r:embed="rId1"/>
          <a:stretch/>
        </p:blipFill>
        <p:spPr>
          <a:xfrm>
            <a:off x="2262240" y="-109440"/>
            <a:ext cx="4333680" cy="1103040"/>
          </a:xfrm>
          <a:prstGeom prst="rect">
            <a:avLst/>
          </a:prstGeom>
          <a:ln w="0">
            <a:noFill/>
          </a:ln>
        </p:spPr>
      </p:pic>
      <p:grpSp>
        <p:nvGrpSpPr>
          <p:cNvPr id="57" name="Управляющая кнопка: домой 3"/>
          <p:cNvGrpSpPr/>
          <p:nvPr/>
        </p:nvGrpSpPr>
        <p:grpSpPr>
          <a:xfrm>
            <a:off x="115920" y="5986440"/>
            <a:ext cx="480960" cy="511200"/>
            <a:chOff x="115920" y="5986440"/>
            <a:chExt cx="480960" cy="511200"/>
          </a:xfrm>
        </p:grpSpPr>
        <p:pic>
          <p:nvPicPr>
            <p:cNvPr id="58" name="Управляющая кнопка: домой 3" descr="">
              <a:hlinkClick r:id="" action="ppaction://hlinkshowjump?jump=firstslide"/>
            </p:cNvPr>
            <p:cNvPicPr/>
            <p:nvPr/>
          </p:nvPicPr>
          <p:blipFill>
            <a:blip r:embed="rId2"/>
            <a:stretch/>
          </p:blipFill>
          <p:spPr>
            <a:xfrm>
              <a:off x="115920" y="5986440"/>
              <a:ext cx="48096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79280" y="6021360"/>
              <a:ext cx="3603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Блок-схема: узел суммирования 4"/>
          <p:cNvGrpSpPr/>
          <p:nvPr/>
        </p:nvGrpSpPr>
        <p:grpSpPr>
          <a:xfrm>
            <a:off x="8431200" y="231840"/>
            <a:ext cx="487440" cy="450720"/>
            <a:chOff x="8431200" y="231840"/>
            <a:chExt cx="487440" cy="450720"/>
          </a:xfrm>
        </p:grpSpPr>
        <p:pic>
          <p:nvPicPr>
            <p:cNvPr id="61" name="Блок-схема: узел суммирования 4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8431200" y="231840"/>
              <a:ext cx="4874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523360" y="318960"/>
              <a:ext cx="3063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2"/>
          <p:cNvSpPr/>
          <p:nvPr/>
        </p:nvSpPr>
        <p:spPr>
          <a:xfrm>
            <a:off x="539640" y="749880"/>
            <a:ext cx="80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Мен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, предусматривает переход к нужному разделу с помощью гиперссы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здел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808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игры и упражнения, направленные на умение слышать и различать гласные зв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808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игры и упражнения, на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выделение гласных звуков в ударной позиции в начале и в конце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808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игры и упражнения, направленные на выделение гласных звуков при слиянии с согласными из сильной позиции в сл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ждый слайд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игрой содержит инструкцию, которую читает взрослый для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уках у герое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ть цветной кружок, нажав который после выполнения упражнения, ребенок получает поощ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Слайд, содержащий сюрприз или поощ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Слайд, содержащий ссылки на картинки и аудиофай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осле выполнения каждого упражнения предусматривается возможность двигаться дальше          или вернуться        на предыдущий слайд, а так же с помощью гиперссылки вернутся в главное меню            или разделы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Выйти из игры можно нажав клавиш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Равнобедренный треугольник 7"/>
          <p:cNvSpPr/>
          <p:nvPr/>
        </p:nvSpPr>
        <p:spPr>
          <a:xfrm rot="5400000">
            <a:off x="2483280" y="5158440"/>
            <a:ext cx="360360" cy="35892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Равнобедренный треугольник 8"/>
          <p:cNvSpPr/>
          <p:nvPr/>
        </p:nvSpPr>
        <p:spPr>
          <a:xfrm rot="16200000">
            <a:off x="4283640" y="5158080"/>
            <a:ext cx="360360" cy="3585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Выгнутая вверх стрелка 9"/>
          <p:cNvSpPr/>
          <p:nvPr/>
        </p:nvSpPr>
        <p:spPr>
          <a:xfrm rot="5400000">
            <a:off x="8519040" y="5529960"/>
            <a:ext cx="314280" cy="287280"/>
          </a:xfrm>
          <a:custGeom>
            <a:avLst/>
            <a:gdLst>
              <a:gd name="textAreaLeft" fmla="*/ 51480 w 314280"/>
              <a:gd name="textAreaRight" fmla="*/ 226800 w 31428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098" hR="21600" stAng="10800000" swAng="5400000"/>
                <a:lnTo>
                  <a:pt x="12035" y="0"/>
                </a:lnTo>
                <a:arcTo wR="7098" hR="21600" stAng="-5400000" swAng="3110420"/>
                <a:lnTo>
                  <a:pt x="21375" y="16200"/>
                </a:lnTo>
                <a:lnTo>
                  <a:pt x="16664" y="21600"/>
                </a:lnTo>
                <a:lnTo>
                  <a:pt x="11502" y="16200"/>
                </a:lnTo>
                <a:lnTo>
                  <a:pt x="13970" y="16200"/>
                </a:lnTo>
                <a:arcTo wR="7098" hR="21600" stAng="-2289580" swAng="-2693442"/>
                <a:lnTo>
                  <a:pt x="9566" y="1349"/>
                </a:lnTo>
                <a:arcTo wR="7098" hR="21600" stAng="-5816978" swAng="-4983022"/>
                <a:close/>
              </a:path>
              <a:path fill="darkenLess" w="21600" h="21600">
                <a:moveTo>
                  <a:pt x="0" y="21600"/>
                </a:moveTo>
                <a:arcTo wR="7098" hR="21600" stAng="10800000" swAng="5400000"/>
                <a:lnTo>
                  <a:pt x="7098" y="0"/>
                </a:lnTo>
                <a:arcTo wR="7098" hR="21600" stAng="-5400000" swAng="416978"/>
                <a:lnTo>
                  <a:pt x="9566" y="1349"/>
                </a:lnTo>
                <a:arcTo wR="7098" hR="21600" stAng="-5816978" swAng="-4983022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Управляющая кнопка: домой 10">
            <a:hlinkClick r:id="" action="ppaction://hlinkshowjump?jump=firstslide"/>
          </p:cNvPr>
          <p:cNvSpPr/>
          <p:nvPr/>
        </p:nvSpPr>
        <p:spPr>
          <a:xfrm>
            <a:off x="5508720" y="5445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лок-схема: узел суммирования 11"/>
          <p:cNvSpPr/>
          <p:nvPr/>
        </p:nvSpPr>
        <p:spPr>
          <a:xfrm>
            <a:off x="4788000" y="5805360"/>
            <a:ext cx="360360" cy="324000"/>
          </a:xfrm>
          <a:prstGeom prst="flowChartSummingJunction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Группа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0" name="Рисунок 1" descr="0_cd31_67051f55_XL[1]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" name="Группа 4"/>
            <p:cNvGrpSpPr/>
            <p:nvPr/>
          </p:nvGrpSpPr>
          <p:grpSpPr>
            <a:xfrm>
              <a:off x="1691640" y="692640"/>
              <a:ext cx="6198120" cy="5112720"/>
              <a:chOff x="1691640" y="692640"/>
              <a:chExt cx="6198120" cy="5112720"/>
            </a:xfrm>
          </p:grpSpPr>
          <p:pic>
            <p:nvPicPr>
              <p:cNvPr id="72" name="Рисунок 2" descr="raduga03[1].png"/>
              <p:cNvPicPr/>
              <p:nvPr/>
            </p:nvPicPr>
            <p:blipFill>
              <a:blip r:embed="rId2"/>
              <a:srcRect l="12781" t="0" r="11802" b="64663"/>
              <a:stretch/>
            </p:blipFill>
            <p:spPr>
              <a:xfrm>
                <a:off x="1691640" y="692640"/>
                <a:ext cx="6198120" cy="511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TextBox 3"/>
              <p:cNvSpPr/>
              <p:nvPr/>
            </p:nvSpPr>
            <p:spPr>
              <a:xfrm>
                <a:off x="4062600" y="783720"/>
                <a:ext cx="165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ru-RU" sz="18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3" action="ppaction://hlinksldjump"/>
                  </a:rPr>
                  <a:t>Знакомств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" name="TextBox 5"/>
          <p:cNvSpPr/>
          <p:nvPr/>
        </p:nvSpPr>
        <p:spPr>
          <a:xfrm>
            <a:off x="4005360" y="14842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Найди лиш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4144680" y="20606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Кому ч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4291200" y="26370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Пря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3924360" y="3213000"/>
            <a:ext cx="16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Двойня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4005360" y="37893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Игры с бук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4030920" y="43657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Живые  ребу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Блок-схема: узел суммирования 13"/>
          <p:cNvGrpSpPr/>
          <p:nvPr/>
        </p:nvGrpSpPr>
        <p:grpSpPr>
          <a:xfrm>
            <a:off x="8431200" y="231840"/>
            <a:ext cx="487440" cy="450720"/>
            <a:chOff x="8431200" y="231840"/>
            <a:chExt cx="487440" cy="450720"/>
          </a:xfrm>
        </p:grpSpPr>
        <p:pic>
          <p:nvPicPr>
            <p:cNvPr id="81" name="Блок-схема: узел суммирования 13" descr="">
              <a:hlinkClick r:id="" action="ppaction://hlinkshowjump?jump=endshow"/>
            </p:cNvPr>
            <p:cNvPicPr/>
            <p:nvPr/>
          </p:nvPicPr>
          <p:blipFill>
            <a:blip r:embed="rId10"/>
            <a:stretch/>
          </p:blipFill>
          <p:spPr>
            <a:xfrm>
              <a:off x="8431200" y="231840"/>
              <a:ext cx="4874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523360" y="318960"/>
              <a:ext cx="3063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Управляющая кнопка: домой 14"/>
          <p:cNvGrpSpPr/>
          <p:nvPr/>
        </p:nvGrpSpPr>
        <p:grpSpPr>
          <a:xfrm>
            <a:off x="115920" y="5986440"/>
            <a:ext cx="480960" cy="511200"/>
            <a:chOff x="115920" y="5986440"/>
            <a:chExt cx="480960" cy="511200"/>
          </a:xfrm>
        </p:grpSpPr>
        <p:pic>
          <p:nvPicPr>
            <p:cNvPr id="84" name="Управляющая кнопка: домой 14" descr="">
              <a:hlinkClick r:id="" action="ppaction://hlinkshowjump?jump=firstslide"/>
            </p:cNvPr>
            <p:cNvPicPr/>
            <p:nvPr/>
          </p:nvPicPr>
          <p:blipFill>
            <a:blip r:embed="rId11"/>
            <a:stretch/>
          </p:blipFill>
          <p:spPr>
            <a:xfrm>
              <a:off x="115920" y="5986440"/>
              <a:ext cx="48096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79280" y="6021360"/>
              <a:ext cx="3603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9"/>
          <p:cNvSpPr/>
          <p:nvPr/>
        </p:nvSpPr>
        <p:spPr>
          <a:xfrm>
            <a:off x="3059280" y="2708280"/>
            <a:ext cx="2952720" cy="50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3" descr="eecf34be7556[1].jpg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2" descr=""/>
          <p:cNvPicPr/>
          <p:nvPr/>
        </p:nvPicPr>
        <p:blipFill>
          <a:blip r:embed="rId2"/>
          <a:stretch/>
        </p:blipFill>
        <p:spPr>
          <a:xfrm>
            <a:off x="1755720" y="1859040"/>
            <a:ext cx="5486400" cy="865080"/>
          </a:xfrm>
          <a:prstGeom prst="rect">
            <a:avLst/>
          </a:prstGeom>
          <a:ln w="0">
            <a:noFill/>
          </a:ln>
        </p:spPr>
      </p:pic>
      <p:grpSp>
        <p:nvGrpSpPr>
          <p:cNvPr id="89" name="TextBox 4"/>
          <p:cNvGrpSpPr/>
          <p:nvPr/>
        </p:nvGrpSpPr>
        <p:grpSpPr>
          <a:xfrm>
            <a:off x="2938320" y="2610000"/>
            <a:ext cx="3187800" cy="712800"/>
            <a:chOff x="2938320" y="2610000"/>
            <a:chExt cx="3187800" cy="712800"/>
          </a:xfrm>
        </p:grpSpPr>
        <p:pic>
          <p:nvPicPr>
            <p:cNvPr id="90" name="TextBox 4" descr=""/>
            <p:cNvPicPr/>
            <p:nvPr/>
          </p:nvPicPr>
          <p:blipFill>
            <a:blip r:embed="rId3"/>
            <a:stretch/>
          </p:blipFill>
          <p:spPr>
            <a:xfrm>
              <a:off x="2938320" y="2610000"/>
              <a:ext cx="31878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059280" y="270828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4"/>
                </a:rPr>
                <a:t>звук 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TextBox 5"/>
          <p:cNvGrpSpPr/>
          <p:nvPr/>
        </p:nvGrpSpPr>
        <p:grpSpPr>
          <a:xfrm>
            <a:off x="3011400" y="3164040"/>
            <a:ext cx="3121200" cy="725400"/>
            <a:chOff x="3011400" y="3164040"/>
            <a:chExt cx="3121200" cy="725400"/>
          </a:xfrm>
        </p:grpSpPr>
        <p:pic>
          <p:nvPicPr>
            <p:cNvPr id="93" name="TextBox 5" descr=""/>
            <p:cNvPicPr/>
            <p:nvPr/>
          </p:nvPicPr>
          <p:blipFill>
            <a:blip r:embed="rId5"/>
            <a:stretch/>
          </p:blipFill>
          <p:spPr>
            <a:xfrm>
              <a:off x="3011400" y="3164040"/>
              <a:ext cx="31212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059280" y="32846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6"/>
                </a:rPr>
                <a:t>звук 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TextBox 6"/>
          <p:cNvGrpSpPr/>
          <p:nvPr/>
        </p:nvGrpSpPr>
        <p:grpSpPr>
          <a:xfrm>
            <a:off x="3011400" y="3743280"/>
            <a:ext cx="3121200" cy="719280"/>
            <a:chOff x="3011400" y="3743280"/>
            <a:chExt cx="3121200" cy="719280"/>
          </a:xfrm>
        </p:grpSpPr>
        <p:pic>
          <p:nvPicPr>
            <p:cNvPr id="96" name="TextBox 6" descr=""/>
            <p:cNvPicPr/>
            <p:nvPr/>
          </p:nvPicPr>
          <p:blipFill>
            <a:blip r:embed="rId7"/>
            <a:stretch/>
          </p:blipFill>
          <p:spPr>
            <a:xfrm>
              <a:off x="3011400" y="3743280"/>
              <a:ext cx="31212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059280" y="38606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ff"/>
                  </a:solidFill>
                  <a:uFillTx/>
                  <a:latin typeface="Calibri"/>
                  <a:hlinkClick r:id="rId8"/>
                </a:rPr>
                <a:t> </a:t>
              </a: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9"/>
                </a:rPr>
                <a:t>звук 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TextBox 7"/>
          <p:cNvGrpSpPr/>
          <p:nvPr/>
        </p:nvGrpSpPr>
        <p:grpSpPr>
          <a:xfrm>
            <a:off x="3011400" y="4896000"/>
            <a:ext cx="3121200" cy="718920"/>
            <a:chOff x="3011400" y="4896000"/>
            <a:chExt cx="3121200" cy="718920"/>
          </a:xfrm>
        </p:grpSpPr>
        <p:pic>
          <p:nvPicPr>
            <p:cNvPr id="99" name="TextBox 7" descr=""/>
            <p:cNvPicPr/>
            <p:nvPr/>
          </p:nvPicPr>
          <p:blipFill>
            <a:blip r:embed="rId10"/>
            <a:stretch/>
          </p:blipFill>
          <p:spPr>
            <a:xfrm>
              <a:off x="3011400" y="4896000"/>
              <a:ext cx="31212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059280" y="501336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1"/>
                </a:rPr>
                <a:t>звук 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TextBox 8"/>
          <p:cNvGrpSpPr/>
          <p:nvPr/>
        </p:nvGrpSpPr>
        <p:grpSpPr>
          <a:xfrm>
            <a:off x="3011400" y="4316400"/>
            <a:ext cx="3121200" cy="725400"/>
            <a:chOff x="3011400" y="4316400"/>
            <a:chExt cx="3121200" cy="725400"/>
          </a:xfrm>
        </p:grpSpPr>
        <p:pic>
          <p:nvPicPr>
            <p:cNvPr id="102" name="TextBox 8" descr=""/>
            <p:cNvPicPr/>
            <p:nvPr/>
          </p:nvPicPr>
          <p:blipFill>
            <a:blip r:embed="rId12"/>
            <a:stretch/>
          </p:blipFill>
          <p:spPr>
            <a:xfrm>
              <a:off x="3011400" y="4316400"/>
              <a:ext cx="31212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059280" y="443700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3"/>
                </a:rPr>
                <a:t>звуки  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Управляющая кнопка: возврат 12"/>
          <p:cNvGrpSpPr/>
          <p:nvPr/>
        </p:nvGrpSpPr>
        <p:grpSpPr>
          <a:xfrm>
            <a:off x="146160" y="5772240"/>
            <a:ext cx="560160" cy="488880"/>
            <a:chOff x="146160" y="5772240"/>
            <a:chExt cx="560160" cy="488880"/>
          </a:xfrm>
        </p:grpSpPr>
        <p:pic>
          <p:nvPicPr>
            <p:cNvPr id="105" name="Управляющая кнопка: возврат 12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146160" y="5772240"/>
              <a:ext cx="5601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79280" y="5805360"/>
              <a:ext cx="50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TextBox 10"/>
          <p:cNvGrpSpPr/>
          <p:nvPr/>
        </p:nvGrpSpPr>
        <p:grpSpPr>
          <a:xfrm>
            <a:off x="3011400" y="5467320"/>
            <a:ext cx="3121200" cy="725400"/>
            <a:chOff x="3011400" y="5467320"/>
            <a:chExt cx="3121200" cy="725400"/>
          </a:xfrm>
        </p:grpSpPr>
        <p:pic>
          <p:nvPicPr>
            <p:cNvPr id="108" name="TextBox 10" descr=""/>
            <p:cNvPicPr/>
            <p:nvPr/>
          </p:nvPicPr>
          <p:blipFill>
            <a:blip r:embed="rId16"/>
            <a:stretch/>
          </p:blipFill>
          <p:spPr>
            <a:xfrm>
              <a:off x="3011400" y="5467320"/>
              <a:ext cx="31212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059280" y="558972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ff"/>
                  </a:solidFill>
                  <a:uFillTx/>
                  <a:latin typeface="Calibri"/>
                  <a:hlinkClick r:id="rId17"/>
                </a:rPr>
                <a:t> </a:t>
              </a: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8"/>
                </a:rPr>
                <a:t>звук 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Блок-схема: узел суммирования 11"/>
          <p:cNvGrpSpPr/>
          <p:nvPr/>
        </p:nvGrpSpPr>
        <p:grpSpPr>
          <a:xfrm>
            <a:off x="8431200" y="231840"/>
            <a:ext cx="487440" cy="450720"/>
            <a:chOff x="8431200" y="231840"/>
            <a:chExt cx="487440" cy="450720"/>
          </a:xfrm>
        </p:grpSpPr>
        <p:pic>
          <p:nvPicPr>
            <p:cNvPr id="111" name="Блок-схема: узел суммирования 11" descr="">
              <a:hlinkClick r:id="" action="ppaction://hlinkshowjump?jump=endshow"/>
            </p:cNvPr>
            <p:cNvPicPr/>
            <p:nvPr/>
          </p:nvPicPr>
          <p:blipFill>
            <a:blip r:embed="rId19"/>
            <a:stretch/>
          </p:blipFill>
          <p:spPr>
            <a:xfrm>
              <a:off x="8431200" y="231840"/>
              <a:ext cx="4874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8523360" y="318960"/>
              <a:ext cx="3063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3" descr="6a97449f91b7ac5dfabb9f9bffa1fe81[1]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TextBox 4" descr=""/>
          <p:cNvPicPr/>
          <p:nvPr/>
        </p:nvPicPr>
        <p:blipFill>
          <a:blip r:embed="rId2"/>
          <a:stretch/>
        </p:blipFill>
        <p:spPr>
          <a:xfrm>
            <a:off x="2693880" y="847800"/>
            <a:ext cx="3975120" cy="809640"/>
          </a:xfrm>
          <a:prstGeom prst="rect">
            <a:avLst/>
          </a:prstGeom>
          <a:ln w="0">
            <a:noFill/>
          </a:ln>
        </p:spPr>
      </p:pic>
      <p:grpSp>
        <p:nvGrpSpPr>
          <p:cNvPr id="115" name="TextBox 6"/>
          <p:cNvGrpSpPr/>
          <p:nvPr/>
        </p:nvGrpSpPr>
        <p:grpSpPr>
          <a:xfrm>
            <a:off x="3224160" y="1530360"/>
            <a:ext cx="3189240" cy="712800"/>
            <a:chOff x="3224160" y="1530360"/>
            <a:chExt cx="3189240" cy="712800"/>
          </a:xfrm>
        </p:grpSpPr>
        <p:pic>
          <p:nvPicPr>
            <p:cNvPr id="116" name="TextBox 6" descr=""/>
            <p:cNvPicPr/>
            <p:nvPr/>
          </p:nvPicPr>
          <p:blipFill>
            <a:blip r:embed="rId3"/>
            <a:stretch/>
          </p:blipFill>
          <p:spPr>
            <a:xfrm>
              <a:off x="3224160" y="1530360"/>
              <a:ext cx="318924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348000" y="16286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4"/>
                </a:rPr>
                <a:t> 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5"/>
                </a:rPr>
                <a:t>звук 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TextBox 7"/>
          <p:cNvGrpSpPr/>
          <p:nvPr/>
        </p:nvGrpSpPr>
        <p:grpSpPr>
          <a:xfrm>
            <a:off x="3297240" y="2120760"/>
            <a:ext cx="3122640" cy="689040"/>
            <a:chOff x="3297240" y="2120760"/>
            <a:chExt cx="3122640" cy="689040"/>
          </a:xfrm>
        </p:grpSpPr>
        <p:pic>
          <p:nvPicPr>
            <p:cNvPr id="119" name="TextBox 7" descr=""/>
            <p:cNvPicPr/>
            <p:nvPr/>
          </p:nvPicPr>
          <p:blipFill>
            <a:blip r:embed="rId6"/>
            <a:stretch/>
          </p:blipFill>
          <p:spPr>
            <a:xfrm>
              <a:off x="3297240" y="2120760"/>
              <a:ext cx="31226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348000" y="220500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7"/>
                </a:rPr>
                <a:t>звук 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TextBox 8"/>
          <p:cNvGrpSpPr/>
          <p:nvPr/>
        </p:nvGrpSpPr>
        <p:grpSpPr>
          <a:xfrm>
            <a:off x="3297240" y="2664000"/>
            <a:ext cx="3122640" cy="658800"/>
            <a:chOff x="3297240" y="2664000"/>
            <a:chExt cx="3122640" cy="658800"/>
          </a:xfrm>
        </p:grpSpPr>
        <p:pic>
          <p:nvPicPr>
            <p:cNvPr id="122" name="TextBox 8" descr=""/>
            <p:cNvPicPr/>
            <p:nvPr/>
          </p:nvPicPr>
          <p:blipFill>
            <a:blip r:embed="rId8"/>
            <a:stretch/>
          </p:blipFill>
          <p:spPr>
            <a:xfrm>
              <a:off x="3297240" y="2664000"/>
              <a:ext cx="312264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348000" y="2781360"/>
              <a:ext cx="29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9"/>
                </a:rPr>
                <a:t>звук 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TextBox 9"/>
          <p:cNvGrpSpPr/>
          <p:nvPr/>
        </p:nvGrpSpPr>
        <p:grpSpPr>
          <a:xfrm>
            <a:off x="3297240" y="3170160"/>
            <a:ext cx="3122640" cy="658800"/>
            <a:chOff x="3297240" y="3170160"/>
            <a:chExt cx="3122640" cy="658800"/>
          </a:xfrm>
        </p:grpSpPr>
        <p:pic>
          <p:nvPicPr>
            <p:cNvPr id="125" name="TextBox 9" descr=""/>
            <p:cNvPicPr/>
            <p:nvPr/>
          </p:nvPicPr>
          <p:blipFill>
            <a:blip r:embed="rId10"/>
            <a:stretch/>
          </p:blipFill>
          <p:spPr>
            <a:xfrm>
              <a:off x="3297240" y="3170160"/>
              <a:ext cx="312264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348000" y="3284640"/>
              <a:ext cx="29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11"/>
                </a:rPr>
                <a:t>звуки  И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TextBox 10"/>
          <p:cNvGrpSpPr/>
          <p:nvPr/>
        </p:nvGrpSpPr>
        <p:grpSpPr>
          <a:xfrm>
            <a:off x="3297240" y="3676680"/>
            <a:ext cx="3122640" cy="650880"/>
            <a:chOff x="3297240" y="3676680"/>
            <a:chExt cx="3122640" cy="650880"/>
          </a:xfrm>
        </p:grpSpPr>
        <p:pic>
          <p:nvPicPr>
            <p:cNvPr id="128" name="TextBox 10" descr=""/>
            <p:cNvPicPr/>
            <p:nvPr/>
          </p:nvPicPr>
          <p:blipFill>
            <a:blip r:embed="rId12"/>
            <a:stretch/>
          </p:blipFill>
          <p:spPr>
            <a:xfrm>
              <a:off x="3297240" y="3676680"/>
              <a:ext cx="312264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348000" y="3789360"/>
              <a:ext cx="29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13"/>
                </a:rPr>
                <a:t>звуки  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TextBox 11"/>
          <p:cNvGrpSpPr/>
          <p:nvPr/>
        </p:nvGrpSpPr>
        <p:grpSpPr>
          <a:xfrm>
            <a:off x="3297240" y="4175280"/>
            <a:ext cx="3122640" cy="658800"/>
            <a:chOff x="3297240" y="4175280"/>
            <a:chExt cx="3122640" cy="658800"/>
          </a:xfrm>
        </p:grpSpPr>
        <p:pic>
          <p:nvPicPr>
            <p:cNvPr id="131" name="TextBox 11" descr=""/>
            <p:cNvPicPr/>
            <p:nvPr/>
          </p:nvPicPr>
          <p:blipFill>
            <a:blip r:embed="rId14"/>
            <a:stretch/>
          </p:blipFill>
          <p:spPr>
            <a:xfrm>
              <a:off x="3297240" y="4175280"/>
              <a:ext cx="312264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348000" y="4292640"/>
              <a:ext cx="29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ff"/>
                  </a:solidFill>
                  <a:uFillTx/>
                  <a:latin typeface="Calibri"/>
                  <a:hlinkClick r:id="rId15"/>
                </a:rPr>
                <a:t> 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16"/>
                </a:rPr>
                <a:t>звук 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Управляющая кнопка: возврат 13"/>
          <p:cNvGrpSpPr/>
          <p:nvPr/>
        </p:nvGrpSpPr>
        <p:grpSpPr>
          <a:xfrm>
            <a:off x="146160" y="5772240"/>
            <a:ext cx="560160" cy="488880"/>
            <a:chOff x="146160" y="5772240"/>
            <a:chExt cx="560160" cy="488880"/>
          </a:xfrm>
        </p:grpSpPr>
        <p:pic>
          <p:nvPicPr>
            <p:cNvPr id="134" name="Управляющая кнопка: возврат 13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146160" y="5772240"/>
              <a:ext cx="5601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79280" y="5805360"/>
              <a:ext cx="50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Блок-схема: узел суммирования 12"/>
          <p:cNvGrpSpPr/>
          <p:nvPr/>
        </p:nvGrpSpPr>
        <p:grpSpPr>
          <a:xfrm>
            <a:off x="8431200" y="231840"/>
            <a:ext cx="487440" cy="450720"/>
            <a:chOff x="8431200" y="231840"/>
            <a:chExt cx="487440" cy="450720"/>
          </a:xfrm>
        </p:grpSpPr>
        <p:pic>
          <p:nvPicPr>
            <p:cNvPr id="137" name="Блок-схема: узел суммирования 12" descr="">
              <a:hlinkClick r:id="" action="ppaction://hlinkshowjump?jump=endshow"/>
            </p:cNvPr>
            <p:cNvPicPr/>
            <p:nvPr/>
          </p:nvPicPr>
          <p:blipFill>
            <a:blip r:embed="rId19"/>
            <a:stretch/>
          </p:blipFill>
          <p:spPr>
            <a:xfrm>
              <a:off x="8431200" y="231840"/>
              <a:ext cx="4874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523360" y="318960"/>
              <a:ext cx="3063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0_5b3c0_3b2ac8d_XL[1]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TextBox 2" descr=""/>
          <p:cNvPicPr/>
          <p:nvPr/>
        </p:nvPicPr>
        <p:blipFill>
          <a:blip r:embed="rId2"/>
          <a:stretch/>
        </p:blipFill>
        <p:spPr>
          <a:xfrm>
            <a:off x="3200400" y="579600"/>
            <a:ext cx="3754440" cy="828360"/>
          </a:xfrm>
          <a:prstGeom prst="rect">
            <a:avLst/>
          </a:prstGeom>
          <a:ln w="0">
            <a:noFill/>
          </a:ln>
        </p:spPr>
      </p:pic>
      <p:grpSp>
        <p:nvGrpSpPr>
          <p:cNvPr id="141" name="TextBox 3"/>
          <p:cNvGrpSpPr/>
          <p:nvPr/>
        </p:nvGrpSpPr>
        <p:grpSpPr>
          <a:xfrm>
            <a:off x="3224160" y="1530360"/>
            <a:ext cx="3189240" cy="712800"/>
            <a:chOff x="3224160" y="1530360"/>
            <a:chExt cx="3189240" cy="712800"/>
          </a:xfrm>
        </p:grpSpPr>
        <p:pic>
          <p:nvPicPr>
            <p:cNvPr id="142" name="TextBox 3" descr=""/>
            <p:cNvPicPr/>
            <p:nvPr/>
          </p:nvPicPr>
          <p:blipFill>
            <a:blip r:embed="rId3"/>
            <a:stretch/>
          </p:blipFill>
          <p:spPr>
            <a:xfrm>
              <a:off x="3224160" y="1530360"/>
              <a:ext cx="318924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348000" y="16286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4"/>
                </a:rPr>
                <a:t> 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5"/>
                </a:rPr>
                <a:t>звук 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TextBox 4"/>
          <p:cNvGrpSpPr/>
          <p:nvPr/>
        </p:nvGrpSpPr>
        <p:grpSpPr>
          <a:xfrm>
            <a:off x="3297240" y="2120760"/>
            <a:ext cx="3122640" cy="689040"/>
            <a:chOff x="3297240" y="2120760"/>
            <a:chExt cx="3122640" cy="689040"/>
          </a:xfrm>
        </p:grpSpPr>
        <p:pic>
          <p:nvPicPr>
            <p:cNvPr id="145" name="TextBox 4" descr=""/>
            <p:cNvPicPr/>
            <p:nvPr/>
          </p:nvPicPr>
          <p:blipFill>
            <a:blip r:embed="rId6"/>
            <a:stretch/>
          </p:blipFill>
          <p:spPr>
            <a:xfrm>
              <a:off x="3297240" y="2120760"/>
              <a:ext cx="31226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348000" y="220500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7"/>
                </a:rPr>
                <a:t>звук 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TextBox 5"/>
          <p:cNvGrpSpPr/>
          <p:nvPr/>
        </p:nvGrpSpPr>
        <p:grpSpPr>
          <a:xfrm>
            <a:off x="3297240" y="2664000"/>
            <a:ext cx="3122640" cy="658800"/>
            <a:chOff x="3297240" y="2664000"/>
            <a:chExt cx="3122640" cy="658800"/>
          </a:xfrm>
        </p:grpSpPr>
        <p:pic>
          <p:nvPicPr>
            <p:cNvPr id="148" name="TextBox 5" descr=""/>
            <p:cNvPicPr/>
            <p:nvPr/>
          </p:nvPicPr>
          <p:blipFill>
            <a:blip r:embed="rId8"/>
            <a:stretch/>
          </p:blipFill>
          <p:spPr>
            <a:xfrm>
              <a:off x="3297240" y="2664000"/>
              <a:ext cx="312264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348000" y="2781360"/>
              <a:ext cx="29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9"/>
                </a:rPr>
                <a:t>звук 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TextBox 6"/>
          <p:cNvGrpSpPr/>
          <p:nvPr/>
        </p:nvGrpSpPr>
        <p:grpSpPr>
          <a:xfrm>
            <a:off x="3297240" y="3170160"/>
            <a:ext cx="3122640" cy="658800"/>
            <a:chOff x="3297240" y="3170160"/>
            <a:chExt cx="3122640" cy="658800"/>
          </a:xfrm>
        </p:grpSpPr>
        <p:pic>
          <p:nvPicPr>
            <p:cNvPr id="151" name="TextBox 6" descr=""/>
            <p:cNvPicPr/>
            <p:nvPr/>
          </p:nvPicPr>
          <p:blipFill>
            <a:blip r:embed="rId10"/>
            <a:stretch/>
          </p:blipFill>
          <p:spPr>
            <a:xfrm>
              <a:off x="3297240" y="3170160"/>
              <a:ext cx="312264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3348000" y="3284640"/>
              <a:ext cx="29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11"/>
                </a:rPr>
                <a:t>звуки  И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TextBox 7"/>
          <p:cNvGrpSpPr/>
          <p:nvPr/>
        </p:nvGrpSpPr>
        <p:grpSpPr>
          <a:xfrm>
            <a:off x="3297240" y="3676680"/>
            <a:ext cx="3122640" cy="650880"/>
            <a:chOff x="3297240" y="3676680"/>
            <a:chExt cx="3122640" cy="650880"/>
          </a:xfrm>
        </p:grpSpPr>
        <p:pic>
          <p:nvPicPr>
            <p:cNvPr id="154" name="TextBox 7" descr=""/>
            <p:cNvPicPr/>
            <p:nvPr/>
          </p:nvPicPr>
          <p:blipFill>
            <a:blip r:embed="rId12"/>
            <a:stretch/>
          </p:blipFill>
          <p:spPr>
            <a:xfrm>
              <a:off x="3297240" y="3676680"/>
              <a:ext cx="312264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3348000" y="3789360"/>
              <a:ext cx="29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13"/>
                </a:rPr>
                <a:t>звуки  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TextBox 8"/>
          <p:cNvGrpSpPr/>
          <p:nvPr/>
        </p:nvGrpSpPr>
        <p:grpSpPr>
          <a:xfrm>
            <a:off x="3297240" y="4175280"/>
            <a:ext cx="3122640" cy="658800"/>
            <a:chOff x="3297240" y="4175280"/>
            <a:chExt cx="3122640" cy="658800"/>
          </a:xfrm>
        </p:grpSpPr>
        <p:pic>
          <p:nvPicPr>
            <p:cNvPr id="157" name="TextBox 8" descr=""/>
            <p:cNvPicPr/>
            <p:nvPr/>
          </p:nvPicPr>
          <p:blipFill>
            <a:blip r:embed="rId14"/>
            <a:stretch/>
          </p:blipFill>
          <p:spPr>
            <a:xfrm>
              <a:off x="3297240" y="4175280"/>
              <a:ext cx="312264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3348000" y="4292640"/>
              <a:ext cx="29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ff"/>
                  </a:solidFill>
                  <a:uFillTx/>
                  <a:latin typeface="Calibri"/>
                  <a:hlinkClick r:id="rId15"/>
                </a:rPr>
                <a:t> 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16"/>
                </a:rPr>
                <a:t>звук 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Управляющая кнопка: возврат 10"/>
          <p:cNvGrpSpPr/>
          <p:nvPr/>
        </p:nvGrpSpPr>
        <p:grpSpPr>
          <a:xfrm>
            <a:off x="146160" y="5772240"/>
            <a:ext cx="560160" cy="488880"/>
            <a:chOff x="146160" y="5772240"/>
            <a:chExt cx="560160" cy="488880"/>
          </a:xfrm>
        </p:grpSpPr>
        <p:pic>
          <p:nvPicPr>
            <p:cNvPr id="160" name="Управляющая кнопка: возврат 10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146160" y="5772240"/>
              <a:ext cx="5601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79280" y="5805360"/>
              <a:ext cx="50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Блок-схема: узел суммирования 11"/>
          <p:cNvGrpSpPr/>
          <p:nvPr/>
        </p:nvGrpSpPr>
        <p:grpSpPr>
          <a:xfrm>
            <a:off x="8431200" y="231840"/>
            <a:ext cx="487440" cy="450720"/>
            <a:chOff x="8431200" y="231840"/>
            <a:chExt cx="487440" cy="450720"/>
          </a:xfrm>
        </p:grpSpPr>
        <p:pic>
          <p:nvPicPr>
            <p:cNvPr id="163" name="Блок-схема: узел суммирования 11" descr="">
              <a:hlinkClick r:id="" action="ppaction://hlinkshowjump?jump=endshow"/>
            </p:cNvPr>
            <p:cNvPicPr/>
            <p:nvPr/>
          </p:nvPicPr>
          <p:blipFill>
            <a:blip r:embed="rId19"/>
            <a:stretch/>
          </p:blipFill>
          <p:spPr>
            <a:xfrm>
              <a:off x="8431200" y="231840"/>
              <a:ext cx="4874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8523360" y="318960"/>
              <a:ext cx="3063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5" descr="82a6654a6c6d[1].jpg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 6" descr=""/>
          <p:cNvPicPr/>
          <p:nvPr/>
        </p:nvPicPr>
        <p:blipFill>
          <a:blip r:embed="rId2"/>
          <a:stretch/>
        </p:blipFill>
        <p:spPr>
          <a:xfrm>
            <a:off x="3139920" y="1768320"/>
            <a:ext cx="2876760" cy="901800"/>
          </a:xfrm>
          <a:prstGeom prst="rect">
            <a:avLst/>
          </a:prstGeom>
          <a:ln w="0">
            <a:noFill/>
          </a:ln>
        </p:spPr>
      </p:pic>
      <p:grpSp>
        <p:nvGrpSpPr>
          <p:cNvPr id="167" name="TextBox 7"/>
          <p:cNvGrpSpPr/>
          <p:nvPr/>
        </p:nvGrpSpPr>
        <p:grpSpPr>
          <a:xfrm>
            <a:off x="2792520" y="2395440"/>
            <a:ext cx="3193920" cy="712800"/>
            <a:chOff x="2792520" y="2395440"/>
            <a:chExt cx="3193920" cy="712800"/>
          </a:xfrm>
        </p:grpSpPr>
        <p:pic>
          <p:nvPicPr>
            <p:cNvPr id="168" name="TextBox 7" descr=""/>
            <p:cNvPicPr/>
            <p:nvPr/>
          </p:nvPicPr>
          <p:blipFill>
            <a:blip r:embed="rId3"/>
            <a:stretch/>
          </p:blipFill>
          <p:spPr>
            <a:xfrm>
              <a:off x="2792520" y="2395440"/>
              <a:ext cx="319392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2916360" y="2492280"/>
              <a:ext cx="29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4"/>
                </a:rPr>
                <a:t>звук 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TextBox 8"/>
          <p:cNvGrpSpPr/>
          <p:nvPr/>
        </p:nvGrpSpPr>
        <p:grpSpPr>
          <a:xfrm>
            <a:off x="2865600" y="2981160"/>
            <a:ext cx="3127320" cy="689040"/>
            <a:chOff x="2865600" y="2981160"/>
            <a:chExt cx="3127320" cy="689040"/>
          </a:xfrm>
        </p:grpSpPr>
        <p:pic>
          <p:nvPicPr>
            <p:cNvPr id="171" name="TextBox 8" descr=""/>
            <p:cNvPicPr/>
            <p:nvPr/>
          </p:nvPicPr>
          <p:blipFill>
            <a:blip r:embed="rId5"/>
            <a:stretch/>
          </p:blipFill>
          <p:spPr>
            <a:xfrm>
              <a:off x="2865600" y="2981160"/>
              <a:ext cx="31273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916360" y="3068640"/>
              <a:ext cx="29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6"/>
                </a:rPr>
                <a:t> 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7"/>
                </a:rPr>
                <a:t>звук 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TextBox 9"/>
          <p:cNvGrpSpPr/>
          <p:nvPr/>
        </p:nvGrpSpPr>
        <p:grpSpPr>
          <a:xfrm>
            <a:off x="2865600" y="3529080"/>
            <a:ext cx="3127320" cy="658800"/>
            <a:chOff x="2865600" y="3529080"/>
            <a:chExt cx="3127320" cy="658800"/>
          </a:xfrm>
        </p:grpSpPr>
        <p:pic>
          <p:nvPicPr>
            <p:cNvPr id="174" name="TextBox 9" descr=""/>
            <p:cNvPicPr/>
            <p:nvPr/>
          </p:nvPicPr>
          <p:blipFill>
            <a:blip r:embed="rId8"/>
            <a:stretch/>
          </p:blipFill>
          <p:spPr>
            <a:xfrm>
              <a:off x="2865600" y="3529080"/>
              <a:ext cx="312732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916360" y="3645000"/>
              <a:ext cx="29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звук 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Управляющая кнопка: возврат 11"/>
          <p:cNvGrpSpPr/>
          <p:nvPr/>
        </p:nvGrpSpPr>
        <p:grpSpPr>
          <a:xfrm>
            <a:off x="146160" y="5772240"/>
            <a:ext cx="560160" cy="488880"/>
            <a:chOff x="146160" y="5772240"/>
            <a:chExt cx="560160" cy="488880"/>
          </a:xfrm>
        </p:grpSpPr>
        <p:pic>
          <p:nvPicPr>
            <p:cNvPr id="177" name="Управляющая кнопка: возврат 11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146160" y="5772240"/>
              <a:ext cx="5601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79280" y="5805360"/>
              <a:ext cx="50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Блок-схема: узел суммирования 10"/>
          <p:cNvGrpSpPr/>
          <p:nvPr/>
        </p:nvGrpSpPr>
        <p:grpSpPr>
          <a:xfrm>
            <a:off x="8431200" y="231840"/>
            <a:ext cx="487440" cy="450720"/>
            <a:chOff x="8431200" y="231840"/>
            <a:chExt cx="487440" cy="450720"/>
          </a:xfrm>
        </p:grpSpPr>
        <p:pic>
          <p:nvPicPr>
            <p:cNvPr id="180" name="Блок-схема: узел суммирования 10" descr="">
              <a:hlinkClick r:id="" action="ppaction://hlinkshowjump?jump=endshow"/>
            </p:cNvPr>
            <p:cNvPicPr/>
            <p:nvPr/>
          </p:nvPicPr>
          <p:blipFill>
            <a:blip r:embed="rId11"/>
            <a:stretch/>
          </p:blipFill>
          <p:spPr>
            <a:xfrm>
              <a:off x="8431200" y="231840"/>
              <a:ext cx="4874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8523360" y="318960"/>
              <a:ext cx="3063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TextBox 12"/>
          <p:cNvGrpSpPr/>
          <p:nvPr/>
        </p:nvGrpSpPr>
        <p:grpSpPr>
          <a:xfrm>
            <a:off x="2865600" y="5041800"/>
            <a:ext cx="3127320" cy="657360"/>
            <a:chOff x="2865600" y="5041800"/>
            <a:chExt cx="3127320" cy="657360"/>
          </a:xfrm>
        </p:grpSpPr>
        <p:pic>
          <p:nvPicPr>
            <p:cNvPr id="183" name="TextBox 12" descr=""/>
            <p:cNvPicPr/>
            <p:nvPr/>
          </p:nvPicPr>
          <p:blipFill>
            <a:blip r:embed="rId12"/>
            <a:stretch/>
          </p:blipFill>
          <p:spPr>
            <a:xfrm>
              <a:off x="2865600" y="5041800"/>
              <a:ext cx="312732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2916360" y="5157720"/>
              <a:ext cx="29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звук 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TextBox 13"/>
          <p:cNvGrpSpPr/>
          <p:nvPr/>
        </p:nvGrpSpPr>
        <p:grpSpPr>
          <a:xfrm>
            <a:off x="2865600" y="4035600"/>
            <a:ext cx="3127320" cy="652320"/>
            <a:chOff x="2865600" y="4035600"/>
            <a:chExt cx="3127320" cy="652320"/>
          </a:xfrm>
        </p:grpSpPr>
        <p:pic>
          <p:nvPicPr>
            <p:cNvPr id="186" name="TextBox 13" descr=""/>
            <p:cNvPicPr/>
            <p:nvPr/>
          </p:nvPicPr>
          <p:blipFill>
            <a:blip r:embed="rId13"/>
            <a:stretch/>
          </p:blipFill>
          <p:spPr>
            <a:xfrm>
              <a:off x="2865600" y="4035600"/>
              <a:ext cx="312732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916360" y="4149720"/>
              <a:ext cx="29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ff"/>
                  </a:solidFill>
                  <a:uFillTx/>
                  <a:latin typeface="Calibri"/>
                  <a:hlinkClick r:id="rId14"/>
                </a:rPr>
                <a:t> 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15"/>
                </a:rPr>
                <a:t>звуки  И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TextBox 14"/>
          <p:cNvGrpSpPr/>
          <p:nvPr/>
        </p:nvGrpSpPr>
        <p:grpSpPr>
          <a:xfrm>
            <a:off x="2865600" y="4535640"/>
            <a:ext cx="3127320" cy="658800"/>
            <a:chOff x="2865600" y="4535640"/>
            <a:chExt cx="3127320" cy="658800"/>
          </a:xfrm>
        </p:grpSpPr>
        <p:pic>
          <p:nvPicPr>
            <p:cNvPr id="189" name="TextBox 14" descr=""/>
            <p:cNvPicPr/>
            <p:nvPr/>
          </p:nvPicPr>
          <p:blipFill>
            <a:blip r:embed="rId16"/>
            <a:stretch/>
          </p:blipFill>
          <p:spPr>
            <a:xfrm>
              <a:off x="2865600" y="4535640"/>
              <a:ext cx="312732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916360" y="4653000"/>
              <a:ext cx="29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звуки  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4" descr="56175535_1268050572_ya_s_telefonom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TextBox 3" descr=""/>
          <p:cNvPicPr/>
          <p:nvPr/>
        </p:nvPicPr>
        <p:blipFill>
          <a:blip r:embed="rId2"/>
          <a:stretch/>
        </p:blipFill>
        <p:spPr>
          <a:xfrm>
            <a:off x="2633760" y="384120"/>
            <a:ext cx="3895560" cy="1401840"/>
          </a:xfrm>
          <a:prstGeom prst="rect">
            <a:avLst/>
          </a:prstGeom>
          <a:ln w="0">
            <a:noFill/>
          </a:ln>
        </p:spPr>
      </p:pic>
      <p:grpSp>
        <p:nvGrpSpPr>
          <p:cNvPr id="193" name="Управляющая кнопка: возврат 5"/>
          <p:cNvGrpSpPr/>
          <p:nvPr/>
        </p:nvGrpSpPr>
        <p:grpSpPr>
          <a:xfrm>
            <a:off x="146160" y="5772240"/>
            <a:ext cx="560160" cy="488880"/>
            <a:chOff x="146160" y="5772240"/>
            <a:chExt cx="560160" cy="488880"/>
          </a:xfrm>
        </p:grpSpPr>
        <p:pic>
          <p:nvPicPr>
            <p:cNvPr id="194" name="Управляющая кнопка: возврат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146160" y="5772240"/>
              <a:ext cx="5601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179280" y="5805360"/>
              <a:ext cx="50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TextBox 6" descr=""/>
          <p:cNvPicPr/>
          <p:nvPr/>
        </p:nvPicPr>
        <p:blipFill>
          <a:blip r:embed="rId5"/>
          <a:stretch/>
        </p:blipFill>
        <p:spPr>
          <a:xfrm>
            <a:off x="1225440" y="1725480"/>
            <a:ext cx="2146320" cy="998640"/>
          </a:xfrm>
          <a:prstGeom prst="rect">
            <a:avLst/>
          </a:prstGeom>
          <a:ln w="0">
            <a:noFill/>
          </a:ln>
        </p:spPr>
      </p:pic>
      <p:pic>
        <p:nvPicPr>
          <p:cNvPr id="197" name="TextBox 7" descr=""/>
          <p:cNvPicPr/>
          <p:nvPr/>
        </p:nvPicPr>
        <p:blipFill>
          <a:blip r:embed="rId6"/>
          <a:stretch/>
        </p:blipFill>
        <p:spPr>
          <a:xfrm>
            <a:off x="1255680" y="2401920"/>
            <a:ext cx="2054160" cy="957240"/>
          </a:xfrm>
          <a:prstGeom prst="rect">
            <a:avLst/>
          </a:prstGeom>
          <a:ln w="0">
            <a:noFill/>
          </a:ln>
        </p:spPr>
      </p:pic>
      <p:pic>
        <p:nvPicPr>
          <p:cNvPr id="198" name="TextBox 8" descr=""/>
          <p:cNvPicPr/>
          <p:nvPr/>
        </p:nvPicPr>
        <p:blipFill>
          <a:blip r:embed="rId7"/>
          <a:stretch/>
        </p:blipFill>
        <p:spPr>
          <a:xfrm>
            <a:off x="1328760" y="3024360"/>
            <a:ext cx="1987560" cy="919080"/>
          </a:xfrm>
          <a:prstGeom prst="rect">
            <a:avLst/>
          </a:prstGeom>
          <a:ln w="0">
            <a:noFill/>
          </a:ln>
        </p:spPr>
      </p:pic>
      <p:grpSp>
        <p:nvGrpSpPr>
          <p:cNvPr id="199" name="TextBox 9"/>
          <p:cNvGrpSpPr/>
          <p:nvPr/>
        </p:nvGrpSpPr>
        <p:grpSpPr>
          <a:xfrm>
            <a:off x="5888160" y="1584360"/>
            <a:ext cx="1903320" cy="658800"/>
            <a:chOff x="5888160" y="1584360"/>
            <a:chExt cx="1903320" cy="658800"/>
          </a:xfrm>
        </p:grpSpPr>
        <p:pic>
          <p:nvPicPr>
            <p:cNvPr id="200" name="TextBox 9" descr=""/>
            <p:cNvPicPr/>
            <p:nvPr/>
          </p:nvPicPr>
          <p:blipFill>
            <a:blip r:embed="rId8"/>
            <a:stretch/>
          </p:blipFill>
          <p:spPr>
            <a:xfrm>
              <a:off x="5888160" y="1584360"/>
              <a:ext cx="190332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5940360" y="170028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9"/>
                </a:rPr>
                <a:t>звуки  И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TextBox 10"/>
          <p:cNvGrpSpPr/>
          <p:nvPr/>
        </p:nvGrpSpPr>
        <p:grpSpPr>
          <a:xfrm>
            <a:off x="5888160" y="2230560"/>
            <a:ext cx="1976400" cy="658800"/>
            <a:chOff x="5888160" y="2230560"/>
            <a:chExt cx="1976400" cy="658800"/>
          </a:xfrm>
        </p:grpSpPr>
        <p:pic>
          <p:nvPicPr>
            <p:cNvPr id="203" name="TextBox 10" descr=""/>
            <p:cNvPicPr/>
            <p:nvPr/>
          </p:nvPicPr>
          <p:blipFill>
            <a:blip r:embed="rId10"/>
            <a:stretch/>
          </p:blipFill>
          <p:spPr>
            <a:xfrm>
              <a:off x="5888160" y="2230560"/>
              <a:ext cx="19764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5940360" y="234936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звуки  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Блок-схема: узел суммирования 11"/>
          <p:cNvGrpSpPr/>
          <p:nvPr/>
        </p:nvGrpSpPr>
        <p:grpSpPr>
          <a:xfrm>
            <a:off x="8431200" y="231840"/>
            <a:ext cx="487440" cy="450720"/>
            <a:chOff x="8431200" y="231840"/>
            <a:chExt cx="487440" cy="450720"/>
          </a:xfrm>
        </p:grpSpPr>
        <p:pic>
          <p:nvPicPr>
            <p:cNvPr id="206" name="Блок-схема: узел суммирования 11" descr="">
              <a:hlinkClick r:id="" action="ppaction://hlinkshowjump?jump=endshow"/>
            </p:cNvPr>
            <p:cNvPicPr/>
            <p:nvPr/>
          </p:nvPicPr>
          <p:blipFill>
            <a:blip r:embed="rId11"/>
            <a:stretch/>
          </p:blipFill>
          <p:spPr>
            <a:xfrm>
              <a:off x="8431200" y="231840"/>
              <a:ext cx="4874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8523360" y="318960"/>
              <a:ext cx="3063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TextBox 13"/>
          <p:cNvGrpSpPr/>
          <p:nvPr/>
        </p:nvGrpSpPr>
        <p:grpSpPr>
          <a:xfrm>
            <a:off x="5888160" y="2882880"/>
            <a:ext cx="1976400" cy="652320"/>
            <a:chOff x="5888160" y="2882880"/>
            <a:chExt cx="1976400" cy="652320"/>
          </a:xfrm>
        </p:grpSpPr>
        <p:pic>
          <p:nvPicPr>
            <p:cNvPr id="209" name="TextBox 13" descr=""/>
            <p:cNvPicPr/>
            <p:nvPr/>
          </p:nvPicPr>
          <p:blipFill>
            <a:blip r:embed="rId12"/>
            <a:stretch/>
          </p:blipFill>
          <p:spPr>
            <a:xfrm>
              <a:off x="5888160" y="2882880"/>
              <a:ext cx="1976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5940360" y="299736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13"/>
                </a:rPr>
                <a:t>звук 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2" descr="1270912154_066.frames.musplus.ru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TextBox 1" descr=""/>
          <p:cNvPicPr/>
          <p:nvPr/>
        </p:nvPicPr>
        <p:blipFill>
          <a:blip r:embed="rId2"/>
          <a:stretch/>
        </p:blipFill>
        <p:spPr>
          <a:xfrm>
            <a:off x="1517760" y="12600"/>
            <a:ext cx="6035400" cy="944640"/>
          </a:xfrm>
          <a:prstGeom prst="rect">
            <a:avLst/>
          </a:prstGeom>
          <a:ln w="0">
            <a:noFill/>
          </a:ln>
        </p:spPr>
      </p:pic>
      <p:grpSp>
        <p:nvGrpSpPr>
          <p:cNvPr id="213" name="TextBox 3"/>
          <p:cNvGrpSpPr/>
          <p:nvPr/>
        </p:nvGrpSpPr>
        <p:grpSpPr>
          <a:xfrm>
            <a:off x="798480" y="719280"/>
            <a:ext cx="2219400" cy="1012680"/>
            <a:chOff x="798480" y="719280"/>
            <a:chExt cx="2219400" cy="1012680"/>
          </a:xfrm>
        </p:grpSpPr>
        <p:pic>
          <p:nvPicPr>
            <p:cNvPr id="214" name="TextBox 3" descr=""/>
            <p:cNvPicPr/>
            <p:nvPr/>
          </p:nvPicPr>
          <p:blipFill>
            <a:blip r:embed="rId3"/>
            <a:stretch/>
          </p:blipFill>
          <p:spPr>
            <a:xfrm>
              <a:off x="798480" y="719280"/>
              <a:ext cx="221940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826920" y="836640"/>
              <a:ext cx="2089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ru-RU" sz="2400" spc="-1" strike="noStrike">
                  <a:solidFill>
                    <a:srgbClr val="c00000"/>
                  </a:solidFill>
                  <a:latin typeface="Calibri"/>
                </a:rPr>
                <a:t>Строим букв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TextBox 4"/>
          <p:cNvGrpSpPr/>
          <p:nvPr/>
        </p:nvGrpSpPr>
        <p:grpSpPr>
          <a:xfrm>
            <a:off x="5907240" y="652320"/>
            <a:ext cx="2871720" cy="633600"/>
            <a:chOff x="5907240" y="652320"/>
            <a:chExt cx="2871720" cy="633600"/>
          </a:xfrm>
        </p:grpSpPr>
        <p:pic>
          <p:nvPicPr>
            <p:cNvPr id="217" name="TextBox 4" descr=""/>
            <p:cNvPicPr/>
            <p:nvPr/>
          </p:nvPicPr>
          <p:blipFill>
            <a:blip r:embed="rId4"/>
            <a:stretch/>
          </p:blipFill>
          <p:spPr>
            <a:xfrm>
              <a:off x="5907240" y="652320"/>
              <a:ext cx="287172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940360" y="765000"/>
              <a:ext cx="27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00000"/>
                  </a:solidFill>
                  <a:latin typeface="Calibri"/>
                </a:rPr>
                <a:t> </a:t>
              </a:r>
              <a:r>
                <a:rPr b="1" i="1" lang="ru-RU" sz="2400" spc="-1" strike="noStrike">
                  <a:solidFill>
                    <a:srgbClr val="c00000"/>
                  </a:solidFill>
                  <a:latin typeface="Calibri"/>
                </a:rPr>
                <a:t>Найди букв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TextBox 5"/>
          <p:cNvGrpSpPr/>
          <p:nvPr/>
        </p:nvGrpSpPr>
        <p:grpSpPr>
          <a:xfrm>
            <a:off x="3103560" y="1805040"/>
            <a:ext cx="3157560" cy="1004760"/>
            <a:chOff x="3103560" y="1805040"/>
            <a:chExt cx="3157560" cy="1004760"/>
          </a:xfrm>
        </p:grpSpPr>
        <p:pic>
          <p:nvPicPr>
            <p:cNvPr id="220" name="TextBox 5" descr=""/>
            <p:cNvPicPr/>
            <p:nvPr/>
          </p:nvPicPr>
          <p:blipFill>
            <a:blip r:embed="rId5"/>
            <a:stretch/>
          </p:blipFill>
          <p:spPr>
            <a:xfrm>
              <a:off x="3103560" y="1805040"/>
              <a:ext cx="31575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132000" y="1916280"/>
              <a:ext cx="302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ru-RU" sz="2400" spc="-1" strike="noStrike">
                  <a:solidFill>
                    <a:srgbClr val="c00000"/>
                  </a:solidFill>
                  <a:latin typeface="Calibri"/>
                </a:rPr>
                <a:t>Зрительная гимнаст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TextBox 7"/>
          <p:cNvGrpSpPr/>
          <p:nvPr/>
        </p:nvGrpSpPr>
        <p:grpSpPr>
          <a:xfrm>
            <a:off x="4029120" y="2962440"/>
            <a:ext cx="1292040" cy="463320"/>
            <a:chOff x="4029120" y="2962440"/>
            <a:chExt cx="1292040" cy="463320"/>
          </a:xfrm>
        </p:grpSpPr>
        <p:pic>
          <p:nvPicPr>
            <p:cNvPr id="223" name="TextBox 7" descr=""/>
            <p:cNvPicPr/>
            <p:nvPr/>
          </p:nvPicPr>
          <p:blipFill>
            <a:blip r:embed="rId6"/>
            <a:stretch/>
          </p:blipFill>
          <p:spPr>
            <a:xfrm>
              <a:off x="4029120" y="2962440"/>
              <a:ext cx="129204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067280" y="2997360"/>
              <a:ext cx="12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ff"/>
                  </a:solidFill>
                  <a:uFillTx/>
                  <a:latin typeface="Calibri"/>
                  <a:hlinkClick r:id="rId7"/>
                </a:rPr>
                <a:t>Буква 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TextBox 8"/>
          <p:cNvGrpSpPr/>
          <p:nvPr/>
        </p:nvGrpSpPr>
        <p:grpSpPr>
          <a:xfrm>
            <a:off x="7412040" y="3968640"/>
            <a:ext cx="1293840" cy="470160"/>
            <a:chOff x="7412040" y="3968640"/>
            <a:chExt cx="1293840" cy="470160"/>
          </a:xfrm>
        </p:grpSpPr>
        <p:pic>
          <p:nvPicPr>
            <p:cNvPr id="226" name="TextBox 8" descr=""/>
            <p:cNvPicPr/>
            <p:nvPr/>
          </p:nvPicPr>
          <p:blipFill>
            <a:blip r:embed="rId8"/>
            <a:stretch/>
          </p:blipFill>
          <p:spPr>
            <a:xfrm>
              <a:off x="7412040" y="3968640"/>
              <a:ext cx="129384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7451640" y="400536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ff"/>
                  </a:solidFill>
                  <a:uFillTx/>
                  <a:latin typeface="Calibri"/>
                  <a:hlinkClick r:id="rId9"/>
                </a:rPr>
                <a:t>Буква Э</a:t>
              </a: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TextBox 9"/>
          <p:cNvGrpSpPr/>
          <p:nvPr/>
        </p:nvGrpSpPr>
        <p:grpSpPr>
          <a:xfrm>
            <a:off x="7053120" y="3462480"/>
            <a:ext cx="1292400" cy="469800"/>
            <a:chOff x="7053120" y="3462480"/>
            <a:chExt cx="1292400" cy="469800"/>
          </a:xfrm>
        </p:grpSpPr>
        <p:pic>
          <p:nvPicPr>
            <p:cNvPr id="229" name="TextBox 9" descr=""/>
            <p:cNvPicPr/>
            <p:nvPr/>
          </p:nvPicPr>
          <p:blipFill>
            <a:blip r:embed="rId10"/>
            <a:stretch/>
          </p:blipFill>
          <p:spPr>
            <a:xfrm>
              <a:off x="7053120" y="3462480"/>
              <a:ext cx="12924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093080" y="350028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ff"/>
                  </a:solidFill>
                  <a:uFillTx/>
                  <a:latin typeface="Calibri"/>
                  <a:hlinkClick r:id="rId11"/>
                </a:rPr>
                <a:t>Буква 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TextBox 10"/>
          <p:cNvGrpSpPr/>
          <p:nvPr/>
        </p:nvGrpSpPr>
        <p:grpSpPr>
          <a:xfrm>
            <a:off x="6765840" y="2962440"/>
            <a:ext cx="1292400" cy="463320"/>
            <a:chOff x="6765840" y="2962440"/>
            <a:chExt cx="1292400" cy="463320"/>
          </a:xfrm>
        </p:grpSpPr>
        <p:pic>
          <p:nvPicPr>
            <p:cNvPr id="232" name="TextBox 10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6765840" y="2962440"/>
              <a:ext cx="129240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804000" y="299736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ff"/>
                  </a:solidFill>
                  <a:uFillTx/>
                  <a:latin typeface="Calibri"/>
                  <a:hlinkClick r:id="rId14"/>
                </a:rPr>
                <a:t>Буква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TextBox 11"/>
          <p:cNvGrpSpPr/>
          <p:nvPr/>
        </p:nvGrpSpPr>
        <p:grpSpPr>
          <a:xfrm>
            <a:off x="6838920" y="1878120"/>
            <a:ext cx="1293840" cy="468360"/>
            <a:chOff x="6838920" y="1878120"/>
            <a:chExt cx="1293840" cy="468360"/>
          </a:xfrm>
        </p:grpSpPr>
        <p:pic>
          <p:nvPicPr>
            <p:cNvPr id="235" name="TextBox 11" descr=""/>
            <p:cNvPicPr/>
            <p:nvPr/>
          </p:nvPicPr>
          <p:blipFill>
            <a:blip r:embed="rId15"/>
            <a:stretch/>
          </p:blipFill>
          <p:spPr>
            <a:xfrm>
              <a:off x="6838920" y="1878120"/>
              <a:ext cx="129384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875640" y="1916280"/>
              <a:ext cx="12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ff"/>
                  </a:solidFill>
                  <a:uFillTx/>
                  <a:latin typeface="Calibri"/>
                  <a:hlinkClick r:id="rId16"/>
                </a:rPr>
                <a:t>Буква 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TextBox 12"/>
          <p:cNvGrpSpPr/>
          <p:nvPr/>
        </p:nvGrpSpPr>
        <p:grpSpPr>
          <a:xfrm>
            <a:off x="7199280" y="1305000"/>
            <a:ext cx="1292400" cy="468360"/>
            <a:chOff x="7199280" y="1305000"/>
            <a:chExt cx="1292400" cy="468360"/>
          </a:xfrm>
        </p:grpSpPr>
        <p:pic>
          <p:nvPicPr>
            <p:cNvPr id="238" name="TextBox 12" descr=""/>
            <p:cNvPicPr/>
            <p:nvPr/>
          </p:nvPicPr>
          <p:blipFill>
            <a:blip r:embed="rId17"/>
            <a:stretch/>
          </p:blipFill>
          <p:spPr>
            <a:xfrm>
              <a:off x="7199280" y="1305000"/>
              <a:ext cx="129240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7236000" y="1341360"/>
              <a:ext cx="122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ff"/>
                  </a:solidFill>
                  <a:uFillTx/>
                  <a:latin typeface="Calibri"/>
                  <a:hlinkClick r:id="rId18"/>
                </a:rPr>
                <a:t>Буква 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TextBox 13"/>
          <p:cNvGrpSpPr/>
          <p:nvPr/>
        </p:nvGrpSpPr>
        <p:grpSpPr>
          <a:xfrm>
            <a:off x="858960" y="1663560"/>
            <a:ext cx="1298520" cy="470160"/>
            <a:chOff x="858960" y="1663560"/>
            <a:chExt cx="1298520" cy="470160"/>
          </a:xfrm>
        </p:grpSpPr>
        <p:pic>
          <p:nvPicPr>
            <p:cNvPr id="241" name="TextBox 13" descr=""/>
            <p:cNvPicPr/>
            <p:nvPr/>
          </p:nvPicPr>
          <p:blipFill>
            <a:blip r:embed="rId19"/>
            <a:stretch/>
          </p:blipFill>
          <p:spPr>
            <a:xfrm>
              <a:off x="858960" y="1663560"/>
              <a:ext cx="129852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900000" y="170028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ff"/>
                  </a:solidFill>
                  <a:uFillTx/>
                  <a:latin typeface="Calibri"/>
                  <a:hlinkClick r:id="rId20"/>
                </a:rPr>
                <a:t>Буква 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TextBox 14"/>
          <p:cNvGrpSpPr/>
          <p:nvPr/>
        </p:nvGrpSpPr>
        <p:grpSpPr>
          <a:xfrm>
            <a:off x="1152360" y="2170080"/>
            <a:ext cx="1292400" cy="463680"/>
            <a:chOff x="1152360" y="2170080"/>
            <a:chExt cx="1292400" cy="463680"/>
          </a:xfrm>
        </p:grpSpPr>
        <p:pic>
          <p:nvPicPr>
            <p:cNvPr id="244" name="TextBox 14" descr=""/>
            <p:cNvPicPr/>
            <p:nvPr/>
          </p:nvPicPr>
          <p:blipFill>
            <a:blip r:embed="rId21"/>
            <a:stretch/>
          </p:blipFill>
          <p:spPr>
            <a:xfrm>
              <a:off x="1152360" y="2170080"/>
              <a:ext cx="129240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1187280" y="220500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ff"/>
                  </a:solidFill>
                  <a:uFillTx/>
                  <a:latin typeface="Calibri"/>
                  <a:hlinkClick r:id="rId22"/>
                </a:rPr>
                <a:t>Буква 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TextBox 15"/>
          <p:cNvGrpSpPr/>
          <p:nvPr/>
        </p:nvGrpSpPr>
        <p:grpSpPr>
          <a:xfrm>
            <a:off x="1365120" y="3249720"/>
            <a:ext cx="1292400" cy="468360"/>
            <a:chOff x="1365120" y="3249720"/>
            <a:chExt cx="1292400" cy="468360"/>
          </a:xfrm>
        </p:grpSpPr>
        <p:pic>
          <p:nvPicPr>
            <p:cNvPr id="247" name="TextBox 15" descr=""/>
            <p:cNvPicPr/>
            <p:nvPr/>
          </p:nvPicPr>
          <p:blipFill>
            <a:blip r:embed="rId23"/>
            <a:stretch/>
          </p:blipFill>
          <p:spPr>
            <a:xfrm>
              <a:off x="1365120" y="3249720"/>
              <a:ext cx="129240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1403280" y="328464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ff"/>
                  </a:solidFill>
                  <a:uFillTx/>
                  <a:latin typeface="Calibri"/>
                  <a:hlinkClick r:id="rId24"/>
                </a:rPr>
                <a:t>Буква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TextBox 16"/>
          <p:cNvGrpSpPr/>
          <p:nvPr/>
        </p:nvGrpSpPr>
        <p:grpSpPr>
          <a:xfrm>
            <a:off x="1152360" y="3822840"/>
            <a:ext cx="1292400" cy="468000"/>
            <a:chOff x="1152360" y="3822840"/>
            <a:chExt cx="1292400" cy="468000"/>
          </a:xfrm>
        </p:grpSpPr>
        <p:pic>
          <p:nvPicPr>
            <p:cNvPr id="250" name="TextBox 16" descr=""/>
            <p:cNvPicPr/>
            <p:nvPr/>
          </p:nvPicPr>
          <p:blipFill>
            <a:blip r:embed="rId25"/>
            <a:stretch/>
          </p:blipFill>
          <p:spPr>
            <a:xfrm>
              <a:off x="1152360" y="3822840"/>
              <a:ext cx="129240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1187280" y="386064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ff"/>
                  </a:solidFill>
                  <a:uFillTx/>
                  <a:latin typeface="Calibri"/>
                  <a:hlinkClick r:id="rId26"/>
                </a:rPr>
                <a:t>Буква 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TextBox 17"/>
          <p:cNvGrpSpPr/>
          <p:nvPr/>
        </p:nvGrpSpPr>
        <p:grpSpPr>
          <a:xfrm>
            <a:off x="858960" y="4400640"/>
            <a:ext cx="1298520" cy="469800"/>
            <a:chOff x="858960" y="4400640"/>
            <a:chExt cx="1298520" cy="469800"/>
          </a:xfrm>
        </p:grpSpPr>
        <p:pic>
          <p:nvPicPr>
            <p:cNvPr id="253" name="TextBox 17" descr=""/>
            <p:cNvPicPr/>
            <p:nvPr/>
          </p:nvPicPr>
          <p:blipFill>
            <a:blip r:embed="rId27"/>
            <a:stretch/>
          </p:blipFill>
          <p:spPr>
            <a:xfrm>
              <a:off x="858960" y="4400640"/>
              <a:ext cx="12985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900000" y="443700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ff"/>
                  </a:solidFill>
                  <a:uFillTx/>
                  <a:latin typeface="Calibri"/>
                  <a:hlinkClick r:id="rId28"/>
                </a:rPr>
                <a:t>Буква 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TextBox 18"/>
          <p:cNvGrpSpPr/>
          <p:nvPr/>
        </p:nvGrpSpPr>
        <p:grpSpPr>
          <a:xfrm>
            <a:off x="1365120" y="2670120"/>
            <a:ext cx="1292400" cy="469800"/>
            <a:chOff x="1365120" y="2670120"/>
            <a:chExt cx="1292400" cy="469800"/>
          </a:xfrm>
        </p:grpSpPr>
        <p:pic>
          <p:nvPicPr>
            <p:cNvPr id="256" name="TextBox 18" descr=""/>
            <p:cNvPicPr/>
            <p:nvPr/>
          </p:nvPicPr>
          <p:blipFill>
            <a:blip r:embed="rId29"/>
            <a:stretch/>
          </p:blipFill>
          <p:spPr>
            <a:xfrm>
              <a:off x="1365120" y="2670120"/>
              <a:ext cx="12924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403280" y="270828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ff"/>
                  </a:solidFill>
                  <a:uFillTx/>
                  <a:latin typeface="Calibri"/>
                  <a:hlinkClick r:id="rId30"/>
                </a:rPr>
                <a:t>Буква 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TextBox 19"/>
          <p:cNvGrpSpPr/>
          <p:nvPr/>
        </p:nvGrpSpPr>
        <p:grpSpPr>
          <a:xfrm>
            <a:off x="4029120" y="3535200"/>
            <a:ext cx="1292040" cy="470160"/>
            <a:chOff x="4029120" y="3535200"/>
            <a:chExt cx="1292040" cy="470160"/>
          </a:xfrm>
        </p:grpSpPr>
        <p:pic>
          <p:nvPicPr>
            <p:cNvPr id="259" name="TextBox 19" descr=""/>
            <p:cNvPicPr/>
            <p:nvPr/>
          </p:nvPicPr>
          <p:blipFill>
            <a:blip r:embed="rId31"/>
            <a:stretch/>
          </p:blipFill>
          <p:spPr>
            <a:xfrm>
              <a:off x="4029120" y="3535200"/>
              <a:ext cx="129204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4067280" y="3573360"/>
              <a:ext cx="12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ff"/>
                  </a:solidFill>
                  <a:uFillTx/>
                  <a:latin typeface="Calibri"/>
                  <a:hlinkClick r:id="rId32"/>
                </a:rPr>
                <a:t>Буква 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Блок-схема: узел суммирования 20"/>
          <p:cNvGrpSpPr/>
          <p:nvPr/>
        </p:nvGrpSpPr>
        <p:grpSpPr>
          <a:xfrm>
            <a:off x="8431200" y="231840"/>
            <a:ext cx="487440" cy="450720"/>
            <a:chOff x="8431200" y="231840"/>
            <a:chExt cx="487440" cy="450720"/>
          </a:xfrm>
        </p:grpSpPr>
        <p:pic>
          <p:nvPicPr>
            <p:cNvPr id="262" name="Блок-схема: узел суммирования 20" descr="">
              <a:hlinkClick r:id="" action="ppaction://hlinkshowjump?jump=endshow"/>
            </p:cNvPr>
            <p:cNvPicPr/>
            <p:nvPr/>
          </p:nvPicPr>
          <p:blipFill>
            <a:blip r:embed="rId33"/>
            <a:stretch/>
          </p:blipFill>
          <p:spPr>
            <a:xfrm>
              <a:off x="8431200" y="231840"/>
              <a:ext cx="4874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8523360" y="318960"/>
              <a:ext cx="3063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Управляющая кнопка: возврат 22"/>
          <p:cNvGrpSpPr/>
          <p:nvPr/>
        </p:nvGrpSpPr>
        <p:grpSpPr>
          <a:xfrm>
            <a:off x="146160" y="5772240"/>
            <a:ext cx="560160" cy="488880"/>
            <a:chOff x="146160" y="5772240"/>
            <a:chExt cx="560160" cy="488880"/>
          </a:xfrm>
        </p:grpSpPr>
        <p:pic>
          <p:nvPicPr>
            <p:cNvPr id="265" name="Управляющая кнопка: возврат 22" descr="">
              <a:hlinkClick r:id="rId34" action="ppaction://hlinksldjump"/>
            </p:cNvPr>
            <p:cNvPicPr/>
            <p:nvPr/>
          </p:nvPicPr>
          <p:blipFill>
            <a:blip r:embed="rId35"/>
            <a:stretch/>
          </p:blipFill>
          <p:spPr>
            <a:xfrm>
              <a:off x="146160" y="5772240"/>
              <a:ext cx="5601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79280" y="5805360"/>
              <a:ext cx="50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TextBox 21"/>
          <p:cNvGrpSpPr/>
          <p:nvPr/>
        </p:nvGrpSpPr>
        <p:grpSpPr>
          <a:xfrm>
            <a:off x="6407280" y="2382840"/>
            <a:ext cx="1292040" cy="469800"/>
            <a:chOff x="6407280" y="2382840"/>
            <a:chExt cx="1292040" cy="469800"/>
          </a:xfrm>
        </p:grpSpPr>
        <p:pic>
          <p:nvPicPr>
            <p:cNvPr id="268" name="TextBox 21" descr=""/>
            <p:cNvPicPr/>
            <p:nvPr/>
          </p:nvPicPr>
          <p:blipFill>
            <a:blip r:embed="rId36"/>
            <a:stretch/>
          </p:blipFill>
          <p:spPr>
            <a:xfrm>
              <a:off x="6407280" y="2382840"/>
              <a:ext cx="129204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443640" y="242100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ff"/>
                  </a:solidFill>
                  <a:uFillTx/>
                  <a:latin typeface="Calibri"/>
                  <a:hlinkClick r:id="rId37"/>
                </a:rPr>
                <a:t>Буква 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9:34:09Z</dcterms:created>
  <dc:creator>1</dc:creator>
  <dc:description/>
  <dc:language>en-US</dc:language>
  <cp:lastModifiedBy>1</cp:lastModifiedBy>
  <dcterms:modified xsi:type="dcterms:W3CDTF">2012-01-30T21:51:39Z</dcterms:modified>
  <cp:revision>65</cp:revision>
  <dc:subject/>
  <dc:title>Слайд 1</dc:title>
</cp:coreProperties>
</file>